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7174-DB1D-4A74-9B60-C3F585B10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1AAC5B-B7F3-48B2-B736-92B989D0C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ch school district tackles nutrition education differently, as do schools within districts. You might run into occasional barriers to linking the cafeteria with the classroom</a:t>
            </a:r>
            <a:r>
              <a:rPr b="0" lang="en-US" sz="1200" spc="-1" strike="noStrike">
                <a:solidFill>
                  <a:srgbClr val="000000"/>
                </a:solidFill>
                <a:latin typeface="Times New Roman"/>
              </a:rPr>
              <a:t>, </a:t>
            </a:r>
            <a:r>
              <a:rPr b="0" i="1" lang="en-US" sz="1200" spc="-1" strike="noStrike">
                <a:solidFill>
                  <a:srgbClr val="000000"/>
                </a:solidFill>
                <a:latin typeface="Times New Roman"/>
              </a:rPr>
              <a:t>such as curricula written for the whole year with no chance for variation; teachers who are unwilling to work with food services or who don’t realize that option is available to them; staffing skill and knowledge; and time. Although barriers may appear, it is important to create links between the cafeteria and the classroom. One way to do this is to start with the administration. While the link between learning and food services may not be readily apparent to some, take the time to show administrators that food services can create an important learning environment for stud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copy of the presentation, obtained by printing the PDF version of these slides from the Training 1 folder on this Web Resour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inal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training session. This session focuses on the messages students are learning through the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classroom materia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E3FD-CD86-4AEF-8CD6-84AE24260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ve participants form six groups and designate group leaders, perhaps the person in each group whose birthday is closest to the day’s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o each group an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classroom lesson from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oup 1: Carb Smart [lesso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oup 2: Safe Workout: An Introduction [lesso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oup 3: Water Water Everywhere . . . And It’s the Thing to Drink [lesson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oup 4: Freeze My TV [lesson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oup 5: Snack Attack [lesson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oup 6: Balancing Act [lesson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l the lessons do not have to be reviewed in 1 day. They can be reviewed one at a time at individual training sessions throughout the schoo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oup will have 10 minutes to quickly review the lesson and 2 minutes each to report back to the overall group. Each group leader will take notes from her group’s discussion and report back to the group as a who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6CB2-7B19-494B-BF33-EBD8DAEEA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port back. Each group should provide a brief overview of the lesson, ideas on how you can help reinforce and promote the messages of the lesson in the cafeteria, and ideas on how the cafeteria can serve as a learning laboratory for the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 the groups report back, write their comments on the flip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fter every group has reported, review all the comments with the group, focusing in particular on ways participants can help promote the messages of the lessons to stud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4A92-86F8-447F-8723-88B2F7B14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all for completing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raining sess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271440" y="2495520"/>
            <a:ext cx="8548560" cy="3089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Classroom Units:</a:t>
            </a:r>
            <a:endParaRPr b="0" lang="en-US" sz="7200" spc="-1" strike="noStrike">
              <a:solidFill>
                <a:srgbClr val="000000"/>
              </a:solidFill>
              <a:latin typeface="Times New Roman"/>
            </a:endParaRPr>
          </a:p>
          <a:p>
            <a:pPr marL="339480" indent="-3394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What’s Being Taught</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Module</a:t>
            </a:r>
            <a:r>
              <a:rPr b="1" lang="en-US" sz="6800" spc="-1" strike="noStrike">
                <a:solidFill>
                  <a:srgbClr val="fbefb3"/>
                </a:solidFill>
                <a:latin typeface="Arial"/>
              </a:rPr>
              <a:t>6</a:t>
            </a:r>
            <a:endParaRPr b="0" lang="en-US" sz="6800" spc="-1" strike="noStrike">
              <a:solidFill>
                <a:srgbClr val="000000"/>
              </a:solidFill>
              <a:latin typeface="Times New Roman"/>
            </a:endParaRPr>
          </a:p>
        </p:txBody>
      </p:sp>
      <p:sp>
        <p:nvSpPr>
          <p:cNvPr id="51" name="Rectangle 4"/>
          <p:cNvSpPr/>
          <p:nvPr/>
        </p:nvSpPr>
        <p:spPr>
          <a:xfrm>
            <a:off x="0" y="583740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7"/>
          <p:cNvSpPr/>
          <p:nvPr/>
        </p:nvSpPr>
        <p:spPr>
          <a:xfrm>
            <a:off x="0" y="635328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a:t>
            </a:r>
            <a:r>
              <a:rPr b="1" lang="en-US" sz="3600" spc="-1" strike="noStrike">
                <a:solidFill>
                  <a:srgbClr val="3ea44f"/>
                </a:solidFill>
                <a:latin typeface="Arial"/>
              </a:rPr>
              <a:t> </a:t>
            </a:r>
            <a:r>
              <a:rPr b="1" i="1" lang="en-US" sz="3600" spc="-1" strike="noStrike">
                <a:solidFill>
                  <a:srgbClr val="3ea44f"/>
                </a:solidFill>
                <a:latin typeface="Arial"/>
              </a:rPr>
              <a:t>Keep Moving </a:t>
            </a:r>
            <a:r>
              <a:rPr b="1" lang="en-US" sz="3600" spc="-1" strike="noStrike">
                <a:solidFill>
                  <a:srgbClr val="3ea44f"/>
                </a:solidFill>
                <a:latin typeface="Arial"/>
              </a:rPr>
              <a:t>Lesson Review</a:t>
            </a:r>
            <a:endParaRPr b="1" lang="en-US" sz="3600" spc="-1" strike="noStrike">
              <a:solidFill>
                <a:srgbClr val="3ea44f"/>
              </a:solidFill>
              <a:latin typeface="Arial"/>
            </a:endParaRPr>
          </a:p>
        </p:txBody>
      </p:sp>
      <p:sp>
        <p:nvSpPr>
          <p:cNvPr id="5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1: Carb Smar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2: Safe Workout: An Introduc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3: Water Water Everywhere . . . And It’s the Thing to Drin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4: Freeze My TV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5: Snack Attac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6: Balancing Ac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ports From Each Group</a:t>
            </a:r>
            <a:endParaRPr b="1" lang="en-US" sz="3600" spc="-1" strike="noStrike">
              <a:solidFill>
                <a:srgbClr val="3ea44f"/>
              </a:solidFill>
              <a:latin typeface="Arial"/>
            </a:endParaRPr>
          </a:p>
        </p:txBody>
      </p:sp>
      <p:sp>
        <p:nvSpPr>
          <p:cNvPr id="56" name=""/>
          <p:cNvSpPr txBox="1"/>
          <p:nvPr/>
        </p:nvSpPr>
        <p:spPr>
          <a:xfrm>
            <a:off x="571680" y="179028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group should provide the following:</a:t>
            </a:r>
            <a:br>
              <a:rPr sz="2800"/>
            </a:b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rief overview of the less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s on how you can help reinforce and promote the messages of the lesson in the cafeteri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s on how the cafeteria can serve as a learning laboratory for the lesson</a:t>
            </a:r>
            <a:endParaRPr b="1" lang="en-US" sz="2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7-31T16:32:33Z</cp:lastPrinted>
  <dcterms:modified xsi:type="dcterms:W3CDTF">2015-11-19T16:19:54Z</dcterms:modified>
  <cp:revision>27</cp:revision>
  <dc:subject/>
  <dc:title>chapter ??</dc:title>
</cp:coreProperties>
</file>