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2A29-B18C-4C87-B863-3138FC533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9E1802-792A-4332-8DE7-63F5453D0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follow while giving the presentation. Do not read the comments to participants. This convention will be followed throughout the notes in this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each participant a copy of this presentation, obtained by printing the PDF version of these slides in the Training 2 folder on this Web Resour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focuses on the five food groups and the best choices in each group. It also introduces the Nutrition Facts food label in more dept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628B-7CAF-40F1-80A4-DF65E537D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foods contain foods from more than one food group (e.g., a brown rice and bean burrito with cheese: the tortilla and brown rice are in the grains group; the beans are in the protein group; and the cheese is in the dairy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d foods are those prepared and packaged by manufacturers. Salt and other sodium-containing ingredients are often used in food process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C670-F642-4793-95FE-02E6D19F8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ingle food can supply all the nutrients needed to maintain good health. Similarly, not all foods in the same group contain the same nutrients. Oranges, for instance, do not contain much vitamin A, but cantaloupe is a good source of this vitam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foods from all the food groups each day and choosing a variety of best-choice foods within each food group will help you meet your nutritional requirements. It will also make your diet more inte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e best choices within each food group, remember the Kid’s Healthy Eating Plate and these guidelines from the Principles of Healthy Liv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colorful fruits and vegetables instead of junk food (especially dark-green and orange vegetable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whole-grain foods and limit foods with added sugar.</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the switch from sugary drinks to water.</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s with healthy fat, limit foods high in saturated fat, and avoid foods with trans f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5629-FF12-47C4-8DA7-DBFA3C120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ning a balanced diet, we must also keep in mind the energy requirements for adults and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men need 1,800 to 2,000 calories per day, and most men need 2,200 to 2,400 calories per day; people need more if they are ver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rls aged 9 to 13 need about 1,600 calories per day, while boys aged 9 to 13 need 1,800 calories per day; girls and boys who are moderately physically active may need up to 2,000 calories per day (girls) and 2,200 calories per day (boys), and very active girls and boys (those who do the equivalent of walking more than 3 miles, or 5 kilometers, per day in addition to participating in regular daily activities) may need to consume even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rucial to note that while calories are important, it’s not just how many calories you eat, but where they come from that matters as well. Energy balance is important, but it’s also key to make sure that your energy from food (calories) come from nutritious, healthy sourc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27FD-D3D1-45EA-932D-7194A7057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trition Facts food label is printed on nearly all packaged foods. Reading these labels is an effective way to compare the saturated fat, trans fat, fiber, and other nutrient contents of various f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od label uses a daily diet of 2,000 calories as a reference point for the number of calories a person needs each day. But you may require more or less than 2,000 calories, depending on your age, gender, level of physical activity, and intention to maintain, lose, or gain we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culate the energy needs for an adult, visit https://www.bcm.edu/cnrc-apps/caloriesneed.cf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4E35-17E5-4C09-B002-36103D1C2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 Daily Value (% DV) that appears on food labels lets you find out whether a food is high or low in a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saturated fat, if the % DV is 5 or less for an individual food, then the food is considered low in saturated fat. The more foods chosen that have a % DV of 5 or less for saturated fat, the easier it is to eat a healthier d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daily goal is to select foods that together have less than 100% of the DV for saturated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rule applies to the % DV for sodiu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D3CC-C3B2-4EB2-8593-9B233B3ED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 DV also indicates whether a food is high or low in other nutrients like vitamins A and C, calcium, and i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 DV for any of these nutrients is 5 or less, the food is considered low in tha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daily goal is to select foods that together reach 100% of the DV for these nutri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9D6E-DCE7-4945-BAFD-E37E89A74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 DV for trans fat, because it is unclear if there is any safe level of intake. The consumption of trans fat is strongly associated with increased risk of coronary heart disease, so it is best to avoid trans fat from partially hydrogenate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s list the number of grams of trans fat per serving. Products made with partially hydrogenated oils can still claim “0 grams trans fat” if they contain less than 0.5 grams of trans fat per serving. These small amounts of trans fat can add up over the course of the day. So watch out for the words </a:t>
            </a:r>
            <a:r>
              <a:rPr b="0" i="1" lang="en-US" sz="1200" spc="-1" strike="noStrike">
                <a:solidFill>
                  <a:srgbClr val="000000"/>
                </a:solidFill>
                <a:latin typeface="Times New Roman"/>
              </a:rPr>
              <a:t>partially hydrogenated vegetable oil</a:t>
            </a:r>
            <a:r>
              <a:rPr b="0" lang="en-US" sz="1200" spc="-1" strike="noStrike">
                <a:solidFill>
                  <a:srgbClr val="000000"/>
                </a:solidFill>
                <a:latin typeface="Times New Roman"/>
              </a:rPr>
              <a:t>* in the ingredients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to an alternative product that does not contain partially hydrogenated oil, especially if it is a product you consume regula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at at the time of publication, the FDA banned the use of partially hydrogenated oils in food products, giving manufacturers three years to comply with the decision. This messaging on avoiding trans fat from partially hydrogenated oils remains important guidance during the transitional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8C61-3163-4C34-8CCD-5364DB5C7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 DV for saturated fat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ll food labels provide the % DV for nutrients, it is good to know how these values are calculated. The following instructions describe how the % DV for saturated fat is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particular food, divide the number of grams of saturated fat per serving by 22 and multiply by 100. (The number 22 is used because health experts recommend that a person eating a 2,000-calorie daily diet consume no more than 22 grams of saturated fat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1 cup of whole milk has 5 grams of saturated fat, and so (5 ÷ 22) × 100 = 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5 grams does not sound like much, but for a person who requires 2,000 calories per day, just 1 cup of whole milk contains 23% of the DV for saturated f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C058-D6BA-4F58-A47D-A8181C59E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do an exercise focusing on the % DV for saturated f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ss out photocopied food labels or the Percent Daily Values of Saturated Fat and Grams of Trans Fat for Fast Food chart from worksheet 5.1 in the Reproducibles folder of the Web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 the calories per serving, the amount of saturated fat grams per serving, and the % DV for saturated fat as listed on the food label. Let’s determine which foods when combined add up to 100% of the recommended daily maximum of saturated fat. This is done by adding the % DVs for saturated fat of the foods until the combined % DVs equal 100%. It may take only 2 to 4 foods, depending on their saturated fat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ke suggestions from the participants or allow participants to work together in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example on the slide shows that you can get a day’s worth of saturated fat from one small fast-food cheeseburger and a vanilla milkshake, a chocolate chip cookie, and 1/4 cup of roasted cash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approach with each of the nutrients whose % DV appears on food labels. For vitamins and minerals, eat foods totaling to at least 100% of the DV. For saturated fat, eat less than 100% of the DV.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92D1-9606-4E4B-ACC1-F669EA49C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Tour de Health Scorecard, several small slips of paper, and markers to each group. Shuffle the deck of Tour de Health Game Cards, and place it facedown on the top of a tab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w play a healthy living game that is part of 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classroom lessons. Let’s review the directions and play a roun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roup gets a scorecard and a marker. I </a:t>
            </a:r>
            <a:r>
              <a:rPr b="0" i="1" lang="en-US" sz="1200" spc="-1" strike="noStrike">
                <a:solidFill>
                  <a:srgbClr val="000000"/>
                </a:solidFill>
                <a:latin typeface="Times New Roman"/>
              </a:rPr>
              <a:t>(the trainer) </a:t>
            </a:r>
            <a:r>
              <a:rPr b="0" lang="en-US" sz="1200" spc="-1" strike="noStrike">
                <a:solidFill>
                  <a:srgbClr val="000000"/>
                </a:solidFill>
                <a:latin typeface="Times New Roman"/>
              </a:rPr>
              <a:t>will draw one card at a time, in order from the top of the deck, and read the category of the question (e.g., Whole Grains, Keep Moving). I will then read the question to all of the groups. Questions are either multiple choice or true or false. Each group should decide on a response to the question and write down the answer on a slip of paper. I will ask each group for its response. When a group answers correctly, it will receive 1, 2, or 3 points, depending on the value of the question. Each group enters its points on its scorecard in the related category column. For example, if a group earns 2 points for answering a Keep Moving question, it enters 2 points in the Keep Moving colum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inning the ga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 one: Play can be timed for 15 or 20 minutes, and the group with the most points at the end wi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 two: First group to get 20 total points wi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 like you may offer incentives or prizes [pens, T-shirts, gift certificates, trinkets, or hats] to the winn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BDB7-6CED-4C53-A354-F22D39DD9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a variety of foods keeps our meals interesting and flavorful. It’s also the key to a healthy and balanced diet because each food has a unique mix of nutrients—both macronutrients (carbohydrate, protein, and fat) and micronutrients (vitamins and miner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s, fruits, grains, protein, and dairy make up the five basic food groups, but not all options within these groups are equally beneficial or healthy, and some foods—especially those from plants—are needed in greater proportion than other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1031-FB11-4E08-AF05-497C9C67A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fter the conclusion of Tour de Health, ask participants if they have any fi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session will discuss the safe workou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4167-EA72-4832-BB29-432EF442B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Kid’s Healthy Eating Plate handout from the Additional Resources folder on this Web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Kid</a:t>
            </a:r>
            <a:r>
              <a:rPr b="1" lang="fr-FR" sz="1200" spc="-1" strike="noStrike">
                <a:solidFill>
                  <a:srgbClr val="000000"/>
                </a:solidFill>
                <a:latin typeface="Times New Roman"/>
              </a:rPr>
              <a:t>’</a:t>
            </a:r>
            <a:r>
              <a:rPr b="1" lang="en-US" sz="1200" spc="-1" strike="noStrike">
                <a:solidFill>
                  <a:srgbClr val="000000"/>
                </a:solidFill>
                <a:latin typeface="Times New Roman"/>
              </a:rPr>
              <a:t>s Healthy Eating Plate </a:t>
            </a:r>
            <a:r>
              <a:rPr b="0" lang="en-US" sz="1200" spc="-1" strike="noStrike">
                <a:solidFill>
                  <a:srgbClr val="000000"/>
                </a:solidFill>
                <a:latin typeface="Times New Roman"/>
              </a:rPr>
              <a:t>provides a blueprint to help build a balanced meal with the best choices from eac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filling half of our plate with colorful </a:t>
            </a:r>
            <a:r>
              <a:rPr b="1" lang="fr-FR" sz="1200" spc="-1" strike="noStrike">
                <a:solidFill>
                  <a:srgbClr val="000000"/>
                </a:solidFill>
                <a:latin typeface="Times New Roman"/>
              </a:rPr>
              <a:t>vegetables</a:t>
            </a:r>
            <a:r>
              <a:rPr b="1" lang="en-US" sz="1200" spc="-1" strike="noStrike">
                <a:solidFill>
                  <a:srgbClr val="000000"/>
                </a:solidFill>
                <a:latin typeface="Times New Roman"/>
              </a:rPr>
              <a:t> </a:t>
            </a:r>
            <a:r>
              <a:rPr b="0" lang="en-US" sz="1200" spc="-1" strike="noStrike">
                <a:solidFill>
                  <a:srgbClr val="000000"/>
                </a:solidFill>
                <a:latin typeface="Times New Roman"/>
              </a:rPr>
              <a:t>and </a:t>
            </a:r>
            <a:r>
              <a:rPr b="1" lang="nl-NL" sz="1200" spc="-1" strike="noStrike">
                <a:solidFill>
                  <a:srgbClr val="000000"/>
                </a:solidFill>
                <a:latin typeface="Times New Roman"/>
              </a:rPr>
              <a:t>fruits</a:t>
            </a:r>
            <a:r>
              <a:rPr b="0" lang="en-US" sz="1200" spc="-1" strike="noStrike">
                <a:solidFill>
                  <a:srgbClr val="000000"/>
                </a:solidFill>
                <a:latin typeface="Times New Roman"/>
              </a:rPr>
              <a:t>, split the other half between </a:t>
            </a:r>
            <a:r>
              <a:rPr b="1" lang="en-US" sz="1200" spc="-1" strike="noStrike">
                <a:solidFill>
                  <a:srgbClr val="000000"/>
                </a:solidFill>
                <a:latin typeface="Times New Roman"/>
              </a:rPr>
              <a:t>whole grains </a:t>
            </a:r>
            <a:r>
              <a:rPr b="0" lang="en-US" sz="1200" spc="-1" strike="noStrike">
                <a:solidFill>
                  <a:srgbClr val="000000"/>
                </a:solidFill>
                <a:latin typeface="Times New Roman"/>
              </a:rPr>
              <a:t>and </a:t>
            </a:r>
            <a:r>
              <a:rPr b="1" lang="en-US" sz="1200" spc="-1" strike="noStrike">
                <a:solidFill>
                  <a:srgbClr val="000000"/>
                </a:solidFill>
                <a:latin typeface="Times New Roman"/>
              </a:rPr>
              <a:t>healthy protein</a:t>
            </a:r>
            <a:r>
              <a:rPr b="0" lang="en-US" sz="1200" spc="-1" strike="noStrike">
                <a:solidFill>
                  <a:srgbClr val="000000"/>
                </a:solidFill>
                <a:latin typeface="Times New Roman"/>
              </a:rPr>
              <a:t>. Healthy protein includes mostly plant-based options such as nuts, seeds, and beans, but poultry and fish are also excellent choices. Foods from the </a:t>
            </a:r>
            <a:r>
              <a:rPr b="1" lang="fr-FR" sz="1200" spc="-1" strike="noStrike">
                <a:solidFill>
                  <a:srgbClr val="000000"/>
                </a:solidFill>
                <a:latin typeface="Times New Roman"/>
              </a:rPr>
              <a:t>dairy</a:t>
            </a:r>
            <a:r>
              <a:rPr b="0" lang="en-US" sz="1200" spc="-1" strike="noStrike">
                <a:solidFill>
                  <a:srgbClr val="000000"/>
                </a:solidFill>
                <a:latin typeface="Times New Roman"/>
              </a:rPr>
              <a:t> group are needed in lower proportions than foods from the other groups, but milk and other dairy foods are common sources of calcium and vitamin D, so choose unflavored milk, plain yogurt, or other unsweetened dairy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d</a:t>
            </a:r>
            <a:r>
              <a:rPr b="0" lang="fr-FR" sz="1200" spc="-1" strike="noStrike">
                <a:solidFill>
                  <a:srgbClr val="000000"/>
                </a:solidFill>
                <a:latin typeface="Times New Roman"/>
              </a:rPr>
              <a:t>’</a:t>
            </a:r>
            <a:r>
              <a:rPr b="0" lang="en-US" sz="1200" spc="-1" strike="noStrike">
                <a:solidFill>
                  <a:srgbClr val="000000"/>
                </a:solidFill>
                <a:latin typeface="Times New Roman"/>
              </a:rPr>
              <a:t>s Healthy Eating Plate also includes elements that are not part of the five food groups but are additional important reminders for maintaining a healthy diet and lifestyl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ils (plant-based oils such as olive and canola oil) are a great source of healthy fat, and should be used when cooking or as dressing on a salad.</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hould be the drink of choice at every meal and snack, as well as when staying activ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Kid</a:t>
            </a:r>
            <a:r>
              <a:rPr b="0" lang="fr-FR" sz="1200" spc="-1" strike="noStrike">
                <a:solidFill>
                  <a:srgbClr val="000000"/>
                </a:solidFill>
                <a:latin typeface="Times New Roman"/>
              </a:rPr>
              <a:t>’</a:t>
            </a:r>
            <a:r>
              <a:rPr b="0" lang="en-US" sz="1200" spc="-1" strike="noStrike">
                <a:solidFill>
                  <a:srgbClr val="000000"/>
                </a:solidFill>
                <a:latin typeface="Times New Roman"/>
              </a:rPr>
              <a:t>s Healthy Eating Plate does not contain sugary drinks, sweets, and other junk foods. These are not everyday foods and should only be eaten rarely, if 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just like choosing the right foods, incorporating physical activity into our day by staying active is part of the recipe for keep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let’s move on to discussing each of the food groups in a little more detai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AD04-9849-469D-BEC7-1F01A17F0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Best-Choice Foods handout from the Additional Resources folder on this Web Resource. Distribute food labels from lesson 10 for Sweet Potatoes, Plums, Chicken, and Milk.</a:t>
            </a:r>
            <a:r>
              <a:rPr b="1" i="1" lang="en-US" sz="1200" spc="-1" strike="noStrike">
                <a:solidFill>
                  <a:srgbClr val="000000"/>
                </a:solidFill>
                <a:latin typeface="Times New Roman"/>
              </a:rPr>
              <a:t> </a:t>
            </a:r>
            <a:r>
              <a:rPr b="0" i="1" lang="en-US" sz="1200" spc="-1" strike="noStrike">
                <a:solidFill>
                  <a:srgbClr val="000000"/>
                </a:solidFill>
                <a:latin typeface="Times New Roman"/>
              </a:rPr>
              <a:t>Distribute any other food labels you have collected. Review the following information with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s and fruits provide vitamins, minerals, and carbohydrate. In general they promote overall good health and can reduce the risk of diabetes, heart disease, obesity, and possibly some cancers. Eat at least 5 servings of colorful vegetables and fruits every day; eating more is bett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164C-12E7-49B2-AFEF-439C0B370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s (e.g., oranges, cantaloupe, and strawberries) supply vitamins A and C as well as potassium. They are also high in fi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whole fruits or sliced fruits rather than fruit juices, since they contain the most fiber; if eating canned fruit, choose fruit canned in 100% juice (rather than fruit canned in syrup or with other added sugars and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Plums Nutrition Facts label in lesson 10 of the book,</a:t>
            </a:r>
            <a:r>
              <a:rPr b="0" lang="en-US" sz="1200" spc="-1" strike="noStrike">
                <a:solidFill>
                  <a:srgbClr val="000000"/>
                </a:solidFill>
                <a:latin typeface="Times New Roman"/>
              </a:rPr>
              <a:t> </a:t>
            </a:r>
            <a:r>
              <a:rPr b="0" i="1" lang="en-US" sz="1200" spc="-1" strike="noStrike">
                <a:solidFill>
                  <a:srgbClr val="000000"/>
                </a:solidFill>
                <a:latin typeface="Times New Roman"/>
              </a:rPr>
              <a:t>and discuss differences in serving sizes and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erving of fruit is 1 medium apple, banana, or orange; 1/2 cup chopped or cooked fruit; 1/4 cup of dried fruit, like rais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o limit your consumption of 100% fruit juice to no more than 4 to 6 ounces per day; juice has vitamins and minerals, but it is naturally high in fruit sugar (fructose) and it lacks the fiber found in whole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063E-C907-4A1B-8BE5-BF96C10F0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s (e.g., broccoli, spinach, and carrots) provide vitamins A and C and folate as well as iron and magnesium. They are also high in fi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vegetables in a rainbow of colors, especially dark green (e.g., broccoli, spinach, romaine lettuce, bok choy, kale) and orange (e.g., carrots, sweet potatoes, winter squ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Sweet Potatoes Nutrition Facts label from lesson 10 in the book, and discuss serving sizes and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erving of vegetables is 1/2 cup of cooked or raw vegetables (like baby carrots or green beans), or 1 cup of raw leafy vegetab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3FE9-9096-43FA-9B1D-4E53CF1F2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nutrients from the grains category are carbohydrate, fiber, and some vitamins and minerals. </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rains group, the healthiest choices are whole grains, the less processed the better. Whole grains are a much better choice than refined grains (such as white bread, white rice, and white pasta) because the refining process breaks down the intact grain and strips away many beneficial nutrients. Even though refined grains are fortified with vitamins and minerals in the U.S. and many other countries, fortification is not standard everywhere, and fortification does not replace all of the lost nutrients.</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blem with refined grains is that they get digested and absorbed very quickly, which can cause </a:t>
            </a:r>
            <a:r>
              <a:rPr b="0" lang="nl-NL" sz="1200" spc="-1" strike="noStrike">
                <a:solidFill>
                  <a:srgbClr val="000000"/>
                </a:solidFill>
                <a:latin typeface="Times New Roman"/>
              </a:rPr>
              <a:t>blood </a:t>
            </a:r>
            <a:r>
              <a:rPr b="0" lang="en-US" sz="1200" spc="-1" strike="noStrike">
                <a:solidFill>
                  <a:srgbClr val="000000"/>
                </a:solidFill>
                <a:latin typeface="Times New Roman"/>
              </a:rPr>
              <a:t>sugar levels to spike. In response, the body quickly takes up sugar from the blood and puts it into storage (in muscle, fat, and the liver) to bring sugar levels down to normal. Working so quickly may cause the body to overshoot things however, making blood sugar levels a bit lower than they should be. This can cause feelings of false hunger (even after a big meal) and tiredness.</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s that list a whole grain as the first ingredient and that keep the grain as intact as possible (e.g., choose coarsely ground steel-cut oatmeal rather than instant oatmeal for breakfast).</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atch out for added sugar in the ingredient list, which can be labeled as fructose, glucose, sucrose, corn syrup, and honey, among others. Many grain-based foods, especially cereals, are marketed as being “made with whole grains,” and often list a whole grain as the first ingredient—yet added</a:t>
            </a:r>
            <a:r>
              <a:rPr b="0" lang="es-ES_tradnl" sz="1200" spc="-1" strike="noStrike">
                <a:solidFill>
                  <a:srgbClr val="000000"/>
                </a:solidFill>
                <a:latin typeface="Times New Roman"/>
              </a:rPr>
              <a:t> sugar </a:t>
            </a:r>
            <a:r>
              <a:rPr b="0" lang="en-US" sz="1200" spc="-1" strike="noStrike">
                <a:solidFill>
                  <a:srgbClr val="000000"/>
                </a:solidFill>
                <a:latin typeface="Times New Roman"/>
              </a:rPr>
              <a:t>is also included at the top of the ingredients list, or it appears multiple times throughout the list.</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of whole grains include 100% whole-wheat bread and pasta, whole-grain crackers and breakfast cereals, barley, brown rice, and quino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2FC6-C4BB-4BF0-8F79-6F6911B8C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in the protein group supply protein, B vitamins, iron, and zinc. They are primarily responsible for building and repairing muscles and tissues, digesting nutrients, and improving immunity and bl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healthy sources of protein, including nuts, seeds, beans, and peas, as well as fish, poultry, and vegetarian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Chicken Nutrition Facts label in lesson 10, and discuss nutri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BF08-0F40-4BBB-BCAB-85E33F9EA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from the dairy</a:t>
            </a:r>
            <a:r>
              <a:rPr b="0" i="1" lang="en-US" sz="1200" spc="-1" strike="noStrike">
                <a:solidFill>
                  <a:srgbClr val="000000"/>
                </a:solidFill>
                <a:latin typeface="Times New Roman"/>
              </a:rPr>
              <a:t> </a:t>
            </a:r>
            <a:r>
              <a:rPr b="0" lang="en-US" sz="1200" spc="-1" strike="noStrike">
                <a:solidFill>
                  <a:srgbClr val="000000"/>
                </a:solidFill>
                <a:latin typeface="Times New Roman"/>
              </a:rPr>
              <a:t>group are needed in lower proportions than foods from the other groups, but milk and other dairy foods are common sources of calcium and vitamin D. They also supply protein, riboflavin, and vitamins A and D (if fortified), and help promote strong bones and healthy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choices include unflavored milk, plain yogurt, and other unsweetened dairy foods. People who cannot consume dairy can choose lactose-free milk or calcium-fortified nondairy alternatives such as unflavored and unsweetened rice milk or soy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optimal intake of dairy products has yet to be determined and the research is still develo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o review the most up-to-date evidence on dairy consumption, you can visit or point participants to the Kid’s Healthy Eating Plate web page on The Nutrition Source: www.hsph.harvard.edu/nutritionsource/kids-healthy-eating-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Milk Nutrition Facts label in lesson 10, and discuss nutri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58760" y="2406600"/>
            <a:ext cx="8548560" cy="3089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The Five Food Groups and Nutrition Facts</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Session</a:t>
            </a:r>
            <a:r>
              <a:rPr b="1" lang="en-US" sz="6800" spc="-1" strike="noStrike">
                <a:solidFill>
                  <a:srgbClr val="fbefb3"/>
                </a:solidFill>
                <a:latin typeface="Arial"/>
              </a:rPr>
              <a:t>4</a:t>
            </a:r>
            <a:endParaRPr b="0" lang="en-US" sz="6800" spc="-1" strike="noStrike">
              <a:solidFill>
                <a:srgbClr val="000000"/>
              </a:solidFill>
              <a:latin typeface="Times New Roman"/>
            </a:endParaRPr>
          </a:p>
        </p:txBody>
      </p:sp>
      <p:sp>
        <p:nvSpPr>
          <p:cNvPr id="51" name="Rectangle 4"/>
          <p:cNvSpPr/>
          <p:nvPr/>
        </p:nvSpPr>
        <p:spPr>
          <a:xfrm>
            <a:off x="0" y="563400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1"/>
          <p:cNvSpPr/>
          <p:nvPr/>
        </p:nvSpPr>
        <p:spPr>
          <a:xfrm>
            <a:off x="0" y="637704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ombination and Processed Foods</a:t>
            </a:r>
            <a:endParaRPr b="1" lang="en-US" sz="3600" spc="-1" strike="noStrike">
              <a:solidFill>
                <a:srgbClr val="3ea44f"/>
              </a:solidFill>
              <a:latin typeface="Arial"/>
            </a:endParaRPr>
          </a:p>
        </p:txBody>
      </p:sp>
      <p:sp>
        <p:nvSpPr>
          <p:cNvPr id="71"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ation foods contain foods from more than one food group.</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ed foods are prepared and packaged by manufacturers.</a:t>
            </a:r>
            <a:endParaRPr b="1" lang="en-US" sz="2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77920" y="3045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 Balanced Diet</a:t>
            </a:r>
            <a:endParaRPr b="1" lang="en-US" sz="3600" spc="-1" strike="noStrike">
              <a:solidFill>
                <a:srgbClr val="3ea44f"/>
              </a:solidFill>
              <a:latin typeface="Arial"/>
            </a:endParaRPr>
          </a:p>
        </p:txBody>
      </p:sp>
      <p:sp>
        <p:nvSpPr>
          <p:cNvPr id="73" name=""/>
          <p:cNvSpPr txBox="1"/>
          <p:nvPr/>
        </p:nvSpPr>
        <p:spPr>
          <a:xfrm>
            <a:off x="571680" y="1374480"/>
            <a:ext cx="8051760" cy="4825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ingle food supplies all needed nutrients.</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a variety of foods from each group.</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 these guidelines to make the best choices:</a:t>
            </a:r>
            <a:endParaRPr b="1"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olorful fruits and vegetables instead of junk food.</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whole-grain foods and limit foods with added sugar.</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switch from sugary drinks to water.</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oods with healthy fat, limit foods high in saturated fat, and avoid foods with trans f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nergy Requirements</a:t>
            </a:r>
            <a:endParaRPr b="1" lang="en-US" sz="3600" spc="-1" strike="noStrike">
              <a:solidFill>
                <a:srgbClr val="3ea44f"/>
              </a:solidFill>
              <a:latin typeface="Arial"/>
            </a:endParaRPr>
          </a:p>
        </p:txBody>
      </p:sp>
      <p:sp>
        <p:nvSpPr>
          <p:cNvPr id="75" name=""/>
          <p:cNvSpPr txBox="1"/>
          <p:nvPr/>
        </p:nvSpPr>
        <p:spPr>
          <a:xfrm>
            <a:off x="571680" y="1712520"/>
            <a:ext cx="8051760" cy="43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ult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need 1,800 to 2,000 calories per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 need 2,200 to 2,400 calories per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more if they are very activ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s aged 9 to 13 need 1,600 calories per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s aged 9 to 13 need 1,800 calories per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may need 400 calories more each day if they are moderately acti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active boys and girls may need even more.</a:t>
            </a:r>
            <a:endParaRPr b="0" lang="en-US" sz="24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Reading Food Labels</a:t>
            </a:r>
            <a:endParaRPr b="1" lang="en-US" sz="3600" spc="-1" strike="noStrike">
              <a:solidFill>
                <a:srgbClr val="3ea44f"/>
              </a:solidFill>
              <a:latin typeface="Arial"/>
            </a:endParaRPr>
          </a:p>
        </p:txBody>
      </p:sp>
      <p:pic>
        <p:nvPicPr>
          <p:cNvPr id="77" name="Picture 1" descr=""/>
          <p:cNvPicPr/>
          <p:nvPr/>
        </p:nvPicPr>
        <p:blipFill>
          <a:blip r:embed="rId1"/>
          <a:stretch/>
        </p:blipFill>
        <p:spPr>
          <a:xfrm>
            <a:off x="2255760" y="1324080"/>
            <a:ext cx="4632480" cy="51228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Understanding % Daily Value</a:t>
            </a:r>
            <a:endParaRPr b="1" lang="en-US" sz="3600" spc="-1" strike="noStrike">
              <a:solidFill>
                <a:srgbClr val="3ea44f"/>
              </a:solidFill>
              <a:latin typeface="Arial"/>
            </a:endParaRPr>
          </a:p>
        </p:txBody>
      </p:sp>
      <p:sp>
        <p:nvSpPr>
          <p:cNvPr id="79" name=""/>
          <p:cNvSpPr txBox="1"/>
          <p:nvPr/>
        </p:nvSpPr>
        <p:spPr>
          <a:xfrm>
            <a:off x="571680" y="1774440"/>
            <a:ext cx="8051760" cy="43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 Daily Value (% DV) tells you whether a food is low or high in a nutrien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saturated fat:</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with % DV </a:t>
            </a:r>
            <a:r>
              <a:rPr b="0" lang="en-US" sz="2400" spc="-1" strike="noStrike">
                <a:solidFill>
                  <a:srgbClr val="000000"/>
                </a:solidFill>
                <a:latin typeface="Arial"/>
                <a:ea typeface="Arial"/>
              </a:rPr>
              <a:t>≤</a:t>
            </a:r>
            <a:r>
              <a:rPr b="0" lang="en-US" sz="2400" spc="-1" strike="noStrike">
                <a:solidFill>
                  <a:srgbClr val="000000"/>
                </a:solidFill>
                <a:latin typeface="Arial"/>
              </a:rPr>
              <a:t> 5 is </a:t>
            </a:r>
            <a:r>
              <a:rPr b="0" i="1" lang="en-US" sz="2400" spc="-1" strike="noStrike">
                <a:solidFill>
                  <a:srgbClr val="000000"/>
                </a:solidFill>
                <a:latin typeface="Arial"/>
              </a:rPr>
              <a:t>low</a:t>
            </a:r>
            <a:r>
              <a:rPr b="0" lang="en-US" sz="2400" spc="-1" strike="noStrike">
                <a:solidFill>
                  <a:srgbClr val="000000"/>
                </a:solidFill>
                <a:latin typeface="Arial"/>
              </a:rPr>
              <a:t> in saturated f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with % DV </a:t>
            </a:r>
            <a:r>
              <a:rPr b="0" lang="en-US" sz="2400" spc="-1" strike="noStrike">
                <a:solidFill>
                  <a:srgbClr val="000000"/>
                </a:solidFill>
                <a:latin typeface="Arial"/>
                <a:ea typeface="Arial"/>
              </a:rPr>
              <a:t>≥ </a:t>
            </a:r>
            <a:r>
              <a:rPr b="0" lang="en-US" sz="2400" spc="-1" strike="noStrike">
                <a:solidFill>
                  <a:srgbClr val="000000"/>
                </a:solidFill>
                <a:latin typeface="Arial"/>
              </a:rPr>
              <a:t>20 is </a:t>
            </a:r>
            <a:r>
              <a:rPr b="0" i="1" lang="en-US" sz="2400" spc="-1" strike="noStrike">
                <a:solidFill>
                  <a:srgbClr val="000000"/>
                </a:solidFill>
                <a:latin typeface="Arial"/>
              </a:rPr>
              <a:t>high </a:t>
            </a:r>
            <a:r>
              <a:rPr b="0" lang="en-US" sz="2400" spc="-1" strike="noStrike">
                <a:solidFill>
                  <a:srgbClr val="000000"/>
                </a:solidFill>
                <a:latin typeface="Arial"/>
              </a:rPr>
              <a:t>in saturated f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 the daily goal for saturated fat: </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oods that together have &lt;100% of the DV for saturated f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ier to eat a healthy diet by choosing foods that have </a:t>
            </a:r>
            <a:r>
              <a:rPr b="0" lang="en-US" sz="2400" spc="-1" strike="noStrike">
                <a:solidFill>
                  <a:srgbClr val="000000"/>
                </a:solidFill>
                <a:latin typeface="Arial"/>
                <a:ea typeface="Arial"/>
              </a:rPr>
              <a:t>≤ </a:t>
            </a:r>
            <a:r>
              <a:rPr b="0" lang="en-US" sz="2400" spc="-1" strike="noStrike">
                <a:solidFill>
                  <a:srgbClr val="000000"/>
                </a:solidFill>
                <a:latin typeface="Arial"/>
              </a:rPr>
              <a:t>5% of the DV for saturated fat.</a:t>
            </a:r>
            <a:endParaRPr b="0" lang="en-US" sz="24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 Daily Value for Other Nutrients</a:t>
            </a:r>
            <a:endParaRPr b="1" lang="en-US" sz="3600" spc="-1" strike="noStrike">
              <a:solidFill>
                <a:srgbClr val="3ea44f"/>
              </a:solidFill>
              <a:latin typeface="Arial"/>
            </a:endParaRPr>
          </a:p>
        </p:txBody>
      </p:sp>
      <p:sp>
        <p:nvSpPr>
          <p:cNvPr id="81" name=""/>
          <p:cNvSpPr txBox="1"/>
          <p:nvPr/>
        </p:nvSpPr>
        <p:spPr>
          <a:xfrm>
            <a:off x="571680" y="1794960"/>
            <a:ext cx="8051760" cy="43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DV for vitamins, iron, calcium</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with % DV </a:t>
            </a:r>
            <a:r>
              <a:rPr b="0" lang="en-US" sz="2400" spc="-1" strike="noStrike">
                <a:solidFill>
                  <a:srgbClr val="000000"/>
                </a:solidFill>
                <a:latin typeface="Arial"/>
                <a:ea typeface="Arial"/>
              </a:rPr>
              <a:t>≤</a:t>
            </a:r>
            <a:r>
              <a:rPr b="0" lang="en-US" sz="2400" spc="-1" strike="noStrike">
                <a:solidFill>
                  <a:srgbClr val="000000"/>
                </a:solidFill>
                <a:latin typeface="Arial"/>
              </a:rPr>
              <a:t> 5 is </a:t>
            </a:r>
            <a:r>
              <a:rPr b="0" i="1" lang="en-US" sz="2400" spc="-1" strike="noStrike">
                <a:solidFill>
                  <a:srgbClr val="000000"/>
                </a:solidFill>
                <a:latin typeface="Arial"/>
              </a:rPr>
              <a:t>low</a:t>
            </a:r>
            <a:r>
              <a:rPr b="0" lang="en-US" sz="2400" spc="-1" strike="noStrike">
                <a:solidFill>
                  <a:srgbClr val="000000"/>
                </a:solidFill>
                <a:latin typeface="Arial"/>
              </a:rPr>
              <a:t> in a nutr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with % DV </a:t>
            </a:r>
            <a:r>
              <a:rPr b="0" lang="en-US" sz="2400" spc="-1" strike="noStrike">
                <a:solidFill>
                  <a:srgbClr val="000000"/>
                </a:solidFill>
                <a:latin typeface="Arial"/>
                <a:ea typeface="Arial"/>
              </a:rPr>
              <a:t>≥ </a:t>
            </a:r>
            <a:r>
              <a:rPr b="0" lang="en-US" sz="2400" spc="-1" strike="noStrike">
                <a:solidFill>
                  <a:srgbClr val="000000"/>
                </a:solidFill>
                <a:latin typeface="Arial"/>
              </a:rPr>
              <a:t>20 is </a:t>
            </a:r>
            <a:r>
              <a:rPr b="0" i="1" lang="en-US" sz="2400" spc="-1" strike="noStrike">
                <a:solidFill>
                  <a:srgbClr val="000000"/>
                </a:solidFill>
                <a:latin typeface="Arial"/>
              </a:rPr>
              <a:t>high </a:t>
            </a:r>
            <a:r>
              <a:rPr b="0" lang="en-US" sz="2400" spc="-1" strike="noStrike">
                <a:solidFill>
                  <a:srgbClr val="000000"/>
                </a:solidFill>
                <a:latin typeface="Arial"/>
              </a:rPr>
              <a:t>in a nutrien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goal for vitamins, iron, calcium</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oods that together reach 100% of the DV for these beneficial nutri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ier to reach 100% DV by choosing foods that are high in these nutrients.</a:t>
            </a:r>
            <a:endParaRPr b="0" lang="en-US" sz="24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rans Fat on the Food Label</a:t>
            </a:r>
            <a:endParaRPr b="1" lang="en-US" sz="3600" spc="-1" strike="noStrike">
              <a:solidFill>
                <a:srgbClr val="3ea44f"/>
              </a:solidFill>
              <a:latin typeface="Arial"/>
            </a:endParaRPr>
          </a:p>
        </p:txBody>
      </p:sp>
      <p:sp>
        <p:nvSpPr>
          <p:cNvPr id="83" name=""/>
          <p:cNvSpPr txBox="1"/>
          <p:nvPr/>
        </p:nvSpPr>
        <p:spPr>
          <a:xfrm>
            <a:off x="571680" y="177444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 DV is listed for trans fat, because it is unclear if there is any safe leve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best to avoid trans fat.</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0 grams trans fat” on food label.</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ngredients list for partially hydrogenated oi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to products that do not contain trans fat or partially hydrogenated oil.</a:t>
            </a:r>
            <a:endParaRPr b="0" lang="en-US" sz="24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598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alculating % Daily Value</a:t>
            </a:r>
            <a:br>
              <a:rPr sz="3600"/>
            </a:br>
            <a:r>
              <a:rPr b="1" lang="en-US" sz="3600" spc="-1" strike="noStrike">
                <a:solidFill>
                  <a:srgbClr val="3ea44f"/>
                </a:solidFill>
                <a:latin typeface="Arial"/>
              </a:rPr>
              <a:t>for Saturated Fat</a:t>
            </a:r>
            <a:endParaRPr b="1" lang="en-US" sz="3600" spc="-1" strike="noStrike">
              <a:solidFill>
                <a:srgbClr val="3ea44f"/>
              </a:solidFill>
              <a:latin typeface="Arial"/>
            </a:endParaRPr>
          </a:p>
        </p:txBody>
      </p:sp>
      <p:sp>
        <p:nvSpPr>
          <p:cNvPr id="85"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de the number of grams of saturated fat per serving by 22 and multiply by 100.</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e is an example: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p of whole milk has 5 grams of saturated f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22) × 100 = 23% DV for saturated f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dding Up the Saturated Fat</a:t>
            </a:r>
            <a:endParaRPr b="1" lang="en-US" sz="3600" spc="-1" strike="noStrike">
              <a:solidFill>
                <a:srgbClr val="3ea44f"/>
              </a:solidFill>
              <a:latin typeface="Arial"/>
            </a:endParaRPr>
          </a:p>
        </p:txBody>
      </p:sp>
      <p:graphicFrame>
        <p:nvGraphicFramePr>
          <p:cNvPr id="87" name=""/>
          <p:cNvGraphicFramePr/>
          <p:nvPr/>
        </p:nvGraphicFramePr>
        <p:xfrm>
          <a:off x="496800" y="1523880"/>
          <a:ext cx="8051760" cy="4584960"/>
        </p:xfrm>
        <a:graphic>
          <a:graphicData uri="http://schemas.openxmlformats.org/drawingml/2006/table">
            <a:tbl>
              <a:tblPr/>
              <a:tblGrid>
                <a:gridCol w="5141880"/>
                <a:gridCol w="2909880"/>
              </a:tblGrid>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nack food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DV saturated f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nfat milk</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le sli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ocolate chip cookie (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mall fast-food cheeseburg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illa milkshake (12 oz.)</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pinac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oasted cashews (1/4 cup)</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t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0" y="31147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a44f"/>
                </a:solidFill>
                <a:latin typeface="Arial"/>
              </a:rPr>
              <a:t>Tour de Health</a:t>
            </a:r>
            <a:endParaRPr b="0" lang="en-US" sz="44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74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Five Basic Food Groups</a:t>
            </a:r>
            <a:endParaRPr b="1" lang="en-US" sz="3600" spc="-1" strike="noStrike">
              <a:solidFill>
                <a:srgbClr val="3ea44f"/>
              </a:solidFill>
              <a:latin typeface="Arial"/>
            </a:endParaRPr>
          </a:p>
        </p:txBody>
      </p:sp>
      <p:sp>
        <p:nvSpPr>
          <p:cNvPr id="54"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getab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u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i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ry</a:t>
            </a:r>
            <a:endParaRPr b="1" lang="en-US" sz="2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0" y="30654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90920" y="3733920"/>
            <a:ext cx="1447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7" descr="P:\Kid'sHealthyEatingPlateFinal\KidsHealthyEatingPlate.jpg"/>
          <p:cNvPicPr/>
          <p:nvPr/>
        </p:nvPicPr>
        <p:blipFill>
          <a:blip r:embed="rId1"/>
          <a:srcRect l="0" t="2430" r="0" b="0"/>
          <a:stretch/>
        </p:blipFill>
        <p:spPr>
          <a:xfrm>
            <a:off x="1008000" y="358920"/>
            <a:ext cx="6697800" cy="5884560"/>
          </a:xfrm>
          <a:prstGeom prst="rect">
            <a:avLst/>
          </a:prstGeom>
          <a:ln w="0">
            <a:noFill/>
          </a:ln>
        </p:spPr>
      </p:pic>
      <p:sp>
        <p:nvSpPr>
          <p:cNvPr id="57" name="Text Box 4"/>
          <p:cNvSpPr/>
          <p:nvPr/>
        </p:nvSpPr>
        <p:spPr>
          <a:xfrm>
            <a:off x="204840" y="5997600"/>
            <a:ext cx="87217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5, Harvard T.H. Chan School of Public Health. For more information about The Kid’s Healthy Eating Plate, please see The Nutrition Source, Department of Nutrition, Harvard T.H. Chan School of Public Health,</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hsph.harvard.edu/nutritionsource/kids-healthy-eating-plate</a:t>
            </a:r>
            <a:endParaRPr b="0" lang="en-US" sz="12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oose Colorful Fruits and Vegetables Instead of Junk Food</a:t>
            </a:r>
            <a:endParaRPr b="1" lang="en-US" sz="3600" spc="-1" strike="noStrike">
              <a:solidFill>
                <a:srgbClr val="3ea44f"/>
              </a:solidFill>
              <a:latin typeface="Arial"/>
            </a:endParaRPr>
          </a:p>
        </p:txBody>
      </p:sp>
      <p:sp>
        <p:nvSpPr>
          <p:cNvPr id="59" name=""/>
          <p:cNvSpPr txBox="1"/>
          <p:nvPr/>
        </p:nvSpPr>
        <p:spPr>
          <a:xfrm>
            <a:off x="571680" y="218448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uits and vegetables provide vitamins, minerals, and carbohydrat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fruits and vegetables in a rainbow of colors (choose especially dark-green and orange vegetab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ting 5 or more servings each day can reduce the risk of diabetes, heart disease, obesity, and possibly some cancers. </a:t>
            </a:r>
            <a:endParaRPr b="1" lang="en-US" sz="2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283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Fruits</a:t>
            </a:r>
            <a:endParaRPr b="1" lang="en-US" sz="3600" spc="-1" strike="noStrike">
              <a:solidFill>
                <a:srgbClr val="3ea44f"/>
              </a:solidFill>
              <a:latin typeface="Arial"/>
            </a:endParaRPr>
          </a:p>
        </p:txBody>
      </p:sp>
      <p:sp>
        <p:nvSpPr>
          <p:cNvPr id="61" name=""/>
          <p:cNvSpPr txBox="1"/>
          <p:nvPr/>
        </p:nvSpPr>
        <p:spPr>
          <a:xfrm>
            <a:off x="571680" y="174960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source of vitamins A and C and potassium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le and sliced fruits have more fiber than juice and are better choic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serving = 1 medium apple, banana, or orange; 1/2 cup chopped or cooked fruit; 1/4 cup of dried fruit, like raisi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 fruit juice to no more than 4-6 ounces per day.</a:t>
            </a:r>
            <a:endParaRPr b="1"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424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Vegetables</a:t>
            </a:r>
            <a:endParaRPr b="1" lang="en-US" sz="3600" spc="-1" strike="noStrike">
              <a:solidFill>
                <a:srgbClr val="3ea44f"/>
              </a:solidFill>
              <a:latin typeface="Arial"/>
            </a:endParaRPr>
          </a:p>
        </p:txBody>
      </p:sp>
      <p:sp>
        <p:nvSpPr>
          <p:cNvPr id="63"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source of vitamins A and C, folate, iron, and magnesiu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in fib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a rainbow of colors, especially dark green and deep orang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serving = 1/2 cup cooked vegetables, 1 cup of leafy salad greens</a:t>
            </a:r>
            <a:endParaRPr b="1" lang="en-US" sz="2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220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Grains: </a:t>
            </a:r>
            <a:br>
              <a:rPr sz="3600"/>
            </a:br>
            <a:r>
              <a:rPr b="0" i="1" lang="en-US" sz="3600" spc="-1" strike="noStrike">
                <a:solidFill>
                  <a:srgbClr val="3ea44f"/>
                </a:solidFill>
                <a:latin typeface="Arial"/>
              </a:rPr>
              <a:t>Get Whole Grains and Sack the Sugar!</a:t>
            </a:r>
            <a:endParaRPr b="1" lang="en-US" sz="3600" spc="-1" strike="noStrike">
              <a:solidFill>
                <a:srgbClr val="3ea44f"/>
              </a:solidFill>
              <a:latin typeface="Arial"/>
            </a:endParaRPr>
          </a:p>
        </p:txBody>
      </p:sp>
      <p:sp>
        <p:nvSpPr>
          <p:cNvPr id="65" name=""/>
          <p:cNvSpPr txBox="1"/>
          <p:nvPr/>
        </p:nvSpPr>
        <p:spPr>
          <a:xfrm>
            <a:off x="571680" y="1871280"/>
            <a:ext cx="8051760" cy="43182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ins contain carbohydrate, fiber, and some vitamins and minerals.</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le grains are the healthiest choices.</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foods that list a whole grain as the first ingredient and watch out for added sugar in the ingredients list.</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whole-grain foods include 100% whole-wheat bread and pasta, steel-cut oatmeal, whole-grain crackers and breakfast cereals, barley, brown rice, and quinoa.</a:t>
            </a:r>
            <a:endParaRPr b="1" lang="en-US" sz="2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rotein</a:t>
            </a:r>
            <a:endParaRPr b="1" lang="en-US" sz="3600" spc="-1" strike="noStrike">
              <a:solidFill>
                <a:srgbClr val="3ea44f"/>
              </a:solidFill>
              <a:latin typeface="Arial"/>
            </a:endParaRPr>
          </a:p>
        </p:txBody>
      </p:sp>
      <p:sp>
        <p:nvSpPr>
          <p:cNvPr id="67" name=""/>
          <p:cNvSpPr txBox="1"/>
          <p:nvPr/>
        </p:nvSpPr>
        <p:spPr>
          <a:xfrm>
            <a:off x="571680" y="17521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in protein, B vitamins, and minerals responsible for functions like building and repairing muscles and tissue.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healthy sources of protein, including nuts, seeds, beans, and peas, as well as fish, poultry, and vegetarian alternatives.</a:t>
            </a:r>
            <a:endParaRPr b="1" lang="en-US" sz="2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Dairy</a:t>
            </a:r>
            <a:endParaRPr b="1" lang="en-US" sz="3600" spc="-1" strike="noStrike">
              <a:solidFill>
                <a:srgbClr val="3ea44f"/>
              </a:solidFill>
              <a:latin typeface="Arial"/>
            </a:endParaRPr>
          </a:p>
        </p:txBody>
      </p:sp>
      <p:sp>
        <p:nvSpPr>
          <p:cNvPr id="69" name=""/>
          <p:cNvSpPr txBox="1"/>
          <p:nvPr/>
        </p:nvSpPr>
        <p:spPr>
          <a:xfrm>
            <a:off x="558720" y="1355760"/>
            <a:ext cx="8051760" cy="4317840"/>
          </a:xfrm>
          <a:prstGeom prst="rect">
            <a:avLst/>
          </a:prstGeom>
          <a:noFill/>
          <a:ln w="0">
            <a:noFill/>
          </a:ln>
        </p:spPr>
        <p:txBody>
          <a:bodyPr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ry foods are needed in lower proportions than foods from the other groups</a:t>
            </a:r>
            <a:endParaRPr b="1"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source of calcium; also contains protein, riboflavin, and vitamins A and D</a:t>
            </a:r>
            <a:endParaRPr b="1"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otes strong bones and healthy teeth</a:t>
            </a:r>
            <a:endParaRPr b="1"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unflavored milk, plain yogurt, or unsweetened dairy foods</a:t>
            </a:r>
            <a:endParaRPr b="1"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cannot consume dairy can choose lactose-free milk or calcium-fortified nondairy alternatives such as unflavored and unsweetened rice milk or soy milk</a:t>
            </a:r>
            <a:endParaRPr b="1" lang="en-US" sz="2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17T20:02:39Z</cp:lastPrinted>
  <dcterms:modified xsi:type="dcterms:W3CDTF">2015-11-19T17:45:23Z</dcterms:modified>
  <cp:revision>111</cp:revision>
  <dc:subject/>
  <dc:title>chapter ??</dc:title>
</cp:coreProperties>
</file>