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B569-AA4A-40A5-A647-7B077965C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8B104C-452F-4B23-A145-EB380CF72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second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training session. This session is on wellness and will offer you a chance to explore the many aspects of your home and work lives that contribute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you should follow while giving the presentation. Do not read these comments to participants. This convention will be followed throughout the notes in this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e yourself. If the session is small enough, ask participants to introduce themselv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4B7F-3B10-4D24-8D75-BF6D07B95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hear the report from the Body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primarily relates to physical wellness, which involves nutrition, exercise, personal hygiene (being clean and groomed for work), and medical self-care (preventive health care and treatment for illnesses). Here ar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C043-1465-496D-8AC1-5E4D848EE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eating is the mindfulness practice for when we are preparing and eating our food. Mindful eating is not a diet; rather, it is an increased awareness of our relationship with the foods and drinks we consume, and how they affect our body, our feelings, and our thou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 eating helps us to be alert as to how external cues and our surroundings shape our consumption and lifestyle behaviors. When we eat mindfully, we focus not only on </a:t>
            </a:r>
            <a:r>
              <a:rPr b="0" i="1" lang="en-US" sz="1200" spc="-1" strike="noStrike">
                <a:solidFill>
                  <a:srgbClr val="000000"/>
                </a:solidFill>
                <a:latin typeface="Times New Roman"/>
              </a:rPr>
              <a:t>what we eat</a:t>
            </a:r>
            <a:r>
              <a:rPr b="0" lang="en-US" sz="1200" spc="-1" strike="noStrike">
                <a:solidFill>
                  <a:srgbClr val="000000"/>
                </a:solidFill>
                <a:latin typeface="Times New Roman"/>
              </a:rPr>
              <a:t>, but also </a:t>
            </a:r>
            <a:r>
              <a:rPr b="0" i="1" lang="en-US" sz="1200" spc="-1" strike="noStrike">
                <a:solidFill>
                  <a:srgbClr val="000000"/>
                </a:solidFill>
                <a:latin typeface="Times New Roman"/>
              </a:rPr>
              <a:t>why we eat</a:t>
            </a:r>
            <a:r>
              <a:rPr b="0" lang="en-US" sz="1200" spc="-1" strike="noStrike">
                <a:solidFill>
                  <a:srgbClr val="000000"/>
                </a:solidFill>
                <a:latin typeface="Times New Roman"/>
              </a:rPr>
              <a:t>, </a:t>
            </a:r>
            <a:r>
              <a:rPr b="0" i="1" lang="en-US" sz="1200" spc="-1" strike="noStrike">
                <a:solidFill>
                  <a:srgbClr val="000000"/>
                </a:solidFill>
                <a:latin typeface="Times New Roman"/>
              </a:rPr>
              <a:t>how we eat</a:t>
            </a:r>
            <a:r>
              <a:rPr b="0" lang="en-US" sz="1200" spc="-1" strike="noStrike">
                <a:solidFill>
                  <a:srgbClr val="000000"/>
                </a:solidFill>
                <a:latin typeface="Times New Roman"/>
              </a:rPr>
              <a:t>, and gain a greater understanding of </a:t>
            </a:r>
            <a:r>
              <a:rPr b="0" i="1" lang="en-US" sz="1200" spc="-1" strike="noStrike">
                <a:solidFill>
                  <a:srgbClr val="000000"/>
                </a:solidFill>
                <a:latin typeface="Times New Roman"/>
              </a:rPr>
              <a:t>why we eat what we eat</a:t>
            </a:r>
            <a:r>
              <a:rPr b="0" lang="en-US" sz="1200" spc="-1" strike="noStrike">
                <a:solidFill>
                  <a:srgbClr val="000000"/>
                </a:solidFill>
                <a:latin typeface="Times New Roman"/>
              </a:rPr>
              <a:t>. We also cultivate awareness of what reinforces our unhealthy habits, as well as what deters us from, or motivates us in maintaining, a healthy life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Handout and discuss, if desired, the 7 Practices of a Mindful Eater from the Additional Resources folder on this Web Resource for more information on mindful 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h &amp; Cheung. (2010). </a:t>
            </a:r>
            <a:r>
              <a:rPr b="0" i="1" lang="en-US" sz="1200" spc="-1" strike="noStrike">
                <a:solidFill>
                  <a:srgbClr val="000000"/>
                </a:solidFill>
                <a:latin typeface="Times New Roman"/>
              </a:rPr>
              <a:t>Savor: Mindful Eating, Mindful Life</a:t>
            </a:r>
            <a:r>
              <a:rPr b="0" lang="en-US" sz="1200" spc="-1" strike="noStrike">
                <a:solidFill>
                  <a:srgbClr val="000000"/>
                </a:solidFill>
                <a:latin typeface="Times New Roman"/>
              </a:rPr>
              <a:t>. HarperO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EEF6-B7A4-4290-A9F2-8BBB37287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et’s hear the report from the Spir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s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 touches on a sensitive and sometimes controversial topic: an individual's inner peace and well-being. Wellness is based on individual choice. Spirituality is extremely individualistic and is not necessarily a function of organized religion. In addition to giving people a sense of community and tradition, spirituality, when combined with the other components of positive health promotion, may help people find strength and comfort to deal with an illness. It also may keep stress levels low, which helps people stay healthier. Here are som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7AD7-B524-4A65-91BE-D85F8F353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e the two questions on the slide to the group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wellnes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ssible answers include to raise consciousness about the many aspects of health; to enhance personal well-being through a whole-person perspective that includes body, mind, and spirit; and to identify personal health risk factors in a variety of life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rate the overall health of the students in this school? Wh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385C-BAA6-4AA3-9A08-4C598CDBE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tribute a Can You Ring the Wellness Bell? handout from the Additional Resources folder on this Web Resource to each participant, and go over the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ere’s a chance for each of us to think about our own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lor in the wellness bell for each of the three aspects of wellness to indicate which level of wellness you have achieved today.</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questions 1 and 2—“Things I do that help me reach 100% wellness” and “Things I do that keep me from reaching 100% wellness”—list 3 to 5 answers. </a:t>
            </a: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question 3—“What else would help me reach 100% wellness”—think of external programs, opportunities, supports, and so on that might help you reach closer to 100% wellness. These may include ways that this school or the school district administration could help you achieve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few minutes to complete the form. Then ask the group to form pairs and share some of their answers from ea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the group and ask for volunteers to share 1 or 2 of their answers to questions 1 and 2. Next ask for their answers to question 3 and write these on the flip chart. Highlight those suggestions that might occur in the school setting and briefly discuss what would need to happen to see them realized. Be aware that some things people have written on their sheets may be too sensitive to share with the grou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3B09-3DF7-415D-9DBA-F819D3E38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mmarize the discussion by going over this diagram illustrating the total person concept of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ll five dimensions of wellness—social, spiritual, emotional, physical, and intellectual—are equally important to the total well-being of the individu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0924-C3BD-4FED-9237-BDE93DB6E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ess management is a key aspect of wellness, and one stress management technique involves eliciting the relaxation response, a physical state in which heart rate, blood pressure, and muscle tension decrease. Focusing on a repeated word or phrase or on the breath while disregarding everyday thoughts that come to mind can elicit the relaxation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go through a brief exercise to demonstrate how to elicit the relaxation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dapted from the Benson-Henry Institute for Mind Body Medicine at Massachusetts General Hospital www.mbmi.org/basics/whatis_rresponse_elicitation.as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B56A-858D-4076-AB39-34658E61A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structions on how to elicit the relaxation response foll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1. Ask participants to pick a focus word, short phrase, or prayer that is firmly rooted in their belief systems, such as </a:t>
            </a:r>
            <a:r>
              <a:rPr b="0" lang="en-US" sz="1200" spc="-1" strike="noStrike">
                <a:solidFill>
                  <a:srgbClr val="000000"/>
                </a:solidFill>
                <a:latin typeface="Times New Roman"/>
                <a:ea typeface="Times New Roman"/>
              </a:rPr>
              <a:t>one </a:t>
            </a:r>
            <a:r>
              <a:rPr b="0" i="1" lang="en-US" sz="1200" spc="-1" strike="noStrike">
                <a:solidFill>
                  <a:srgbClr val="000000"/>
                </a:solidFill>
                <a:latin typeface="Times New Roman"/>
                <a:ea typeface="Times New Roman"/>
              </a:rPr>
              <a:t>or </a:t>
            </a:r>
            <a:r>
              <a:rPr b="0" lang="en-US" sz="1200" spc="-1" strike="noStrike">
                <a:solidFill>
                  <a:srgbClr val="000000"/>
                </a:solidFill>
                <a:latin typeface="Times New Roman"/>
                <a:ea typeface="Times New Roman"/>
              </a:rPr>
              <a:t>peace</a:t>
            </a:r>
            <a:r>
              <a:rPr b="0" i="1" lang="en-US" sz="1200" spc="-1" strike="noStrike">
                <a:solidFill>
                  <a:srgbClr val="000000"/>
                </a:solidFill>
                <a:latin typeface="Times New Roman"/>
                <a:ea typeface="Times New Roman"/>
              </a:rPr>
              <a:t> or any other word or phrase. If participants prefer, they may choose to focus on the sensation of their breath as it enters and leaves their nostri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sk participants to sit quietly in a comfortable position and to close their ey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3. Guide participants to relax their muscles, progressing from their feet to their calves, thighs, abdomen, shoulders, head, and neck. Say the follow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rt by relaxing your feet. Feel their connection to the floor. . . . Now relax your calves, releasing any tension, and relax your knees and thighs. . . . Feel the weight of your body sinking into the chair. . . . Take a deep breath, and when you exhale, relax the muscles of your belly. . . . Relax your shoulders, releasing all the tension that they hold. . . . Relax your neck. . . . Feel the muscles of your face and your scalp relax . . . even relax your 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4. Instruct participants to focus on their chosen word or phrase, as follow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eathe slowly and naturally and say your focus word, sound, phrase, or prayer silently to yourself as you exhale. </a:t>
            </a:r>
            <a:r>
              <a:rPr b="0" i="1" lang="en-US" sz="1200" spc="-1" strike="noStrike">
                <a:solidFill>
                  <a:srgbClr val="000000"/>
                </a:solidFill>
                <a:latin typeface="Times New Roman"/>
                <a:ea typeface="Times New Roman"/>
              </a:rPr>
              <a:t>(Alternatively, participants may focus on the sensation of their breath as it passes through their nostrils. Say the follow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 how the breath feels during each inhale; notice how it feels during each exha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dvise participants to assume a passive attit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n’t worry about how well you’re doing. When other thoughts come to mind, simply say to yourself, “Oh well,” and gently return to repeating your phrase silently to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6. Let participants continue to elicit the relaxation response for 3 to 5 minutes. If desired, you may give additional prompts to focus and to assume a passive attit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7. Ask participants to slowly bring their attention back to the room. Then ask them to open their eyes and sit for another minute before speak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sk participants to share their observations on eliciting the relaxation response. Tell them that to reduce stress, it is helpful to practice this technique daily for 10 to 20 minutes. Good times to do so are before breakfast and before dinn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dapted from the Benson-Henry Institute for Mind Body Medicine at Massachusetts General Hospital. Available: www.mbmi.org.basics/whatis_rresponse_elicitation.as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C893-D6F5-4403-83E7-44AEA7520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a copy of the Lifestyle Change Card from the Additional Resources</a:t>
            </a:r>
            <a:r>
              <a:rPr b="1" lang="en-US" sz="1200" spc="-1" strike="noStrike">
                <a:solidFill>
                  <a:srgbClr val="000000"/>
                </a:solidFill>
                <a:latin typeface="Times New Roman"/>
              </a:rPr>
              <a:t> </a:t>
            </a:r>
            <a:r>
              <a:rPr b="0" i="1" lang="en-US" sz="1200" spc="-1" strike="noStrike">
                <a:solidFill>
                  <a:srgbClr val="000000"/>
                </a:solidFill>
                <a:latin typeface="Times New Roman"/>
              </a:rPr>
              <a:t>folder in the Web Resource to each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your opportunity to write your own declaration of wellness. For each part of wellness (mind, body, spirit), you should write one thing that you pledge to do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take the card home and keep it in a place where you will frequently see it, such as on the refrigerator, on the bathroom mirror, in a wallet, or in a pocketboo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3327-3EB5-411A-8350-FAD912546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session will address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and how they relate to your health, the health of the students, and food preparation. </a:t>
            </a:r>
            <a:r>
              <a:rPr b="0" i="1" lang="en-US" sz="1200" spc="-1" strike="noStrike">
                <a:solidFill>
                  <a:srgbClr val="000000"/>
                </a:solidFill>
                <a:latin typeface="Times New Roman"/>
              </a:rPr>
              <a:t>(The Principles of Healthy Living can be found in the Additional Resources folder on this Web Resour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D2FF-4596-4FAA-822C-F01D6EB79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going over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go over the agenda items. Participant handouts should include a copy of this presentation, obtained by printing the PDF version of these slides in the Training 1 folder on this Web Resour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FBB0-65D2-4B63-BD0E-21E69476C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e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a choice of lifestyle marked by a balance of mind, body, and spir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 balanced diet is important to health, so is a balance of the body, or physical wellness; the mind, or emotional and intellectual wellness; and the spirit, or social and spiritual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each of these aspects of well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6B8C-DAA0-4BEE-99FA-D3D5B7CF1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wellness refers to those aspects of health related directly to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wellness means you can get through the day with enough energy for work and play. It is the aspect of wellness that often first comes to mind when people think of wellness. But as you will see, all aspects of wellness are important to our health. In fact, the World Health Organization defines health as “a state of complete physical, mental and soci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Health Organization. (1948). WHO Definition of Health. Retrieved on January 15, 2015, from http://www.who.int/about/definition/en/print.htm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5EF2-C811-4A9A-9F72-C7A0A9807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wellness involves a sense of self-worth and an acceptance for things that are different. Emotional wellness means you are open to learning new things and accepting new ideas. This openness helps you cope with stressful situations and accept them as part of life. You are able to appropriately control and express your e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wellness involves your ability to learn and to use the knowledge you acquire. Intellectual wellness means you are open to experiences that will broaden your knowledge bas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695B-490F-4307-B0D8-D6660DE1D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wellness involves interacting with people and the environment and having satisfying relationships. Social wellness means you have friends with whom you discuss your problems and with whom you spend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ual wellness means you are working to achieve spiritual potential and to find harmony in liv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3239-761B-4A04-A2DD-1D9FA4687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take to achieve each type of wellness? Let's split into groups for a brainstorm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lit participants into three groups and give each group a sheet of newsprint paper with one of the following headings: Mind, Body, or Spirit. Ask the groups to brainstorm characteristics of their type of wellness and activities that can enhance their component; perhaps offer an incentive or a prize, such as pens, T-shirts, or other gifts, for each id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our brainstorming activity, notice that in this diagram, the three aspects of wellness overlap. We will find that many characteristics of wellness fall into more than one categ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349C-B3DF-4FE8-86C9-ECF4EC368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nvene the large group and have each small group report on its brainstorming session. Write the small groups’ responses on a flip chart. You may want to use a symbol of three overlapping circles to represent the three areas of wellness, since there are usually some characteristics that come up in more than one area—e.g., meditation is both spiritual and emotional, exercise is both physical and emotional, mindfulness can apply to all three areas of we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hear the report from the Mind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the points on this slide to review and enhance the report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 focuses on mental wellness, which involves stress management, team building, support groups formed around a central theme, communication classes, and nurturing the intellect. Here are some examples of activities addressing this area. </a:t>
            </a:r>
            <a:r>
              <a:rPr b="0" i="1"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A91F-B983-4083-9C49-7EDE78B98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practiced or heard about the concept of mindfulness. To put it simply, mindfulness is the practice of being fully present in each moment, rather than letting our mind and body go on autopilot. Think of it like mono-tasking, or doing only one thing at a time. For example, instead of thinking about your to-do list while brushing your teeth, concentrate on only brushing your teeth. When listening to a good friend tell you about their day, just li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dfulness can be applied to any area of daily life, contributing to our total wellness by living more fully from moment to mo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297000" y="2583000"/>
            <a:ext cx="8550000" cy="3089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The Good Life— </a:t>
            </a:r>
            <a:endParaRPr b="0" lang="en-US" sz="7200" spc="-1" strike="noStrike">
              <a:solidFill>
                <a:srgbClr val="000000"/>
              </a:solidFill>
              <a:latin typeface="Times New Roman"/>
            </a:endParaRPr>
          </a:p>
          <a:p>
            <a:pPr marL="343080" indent="-34308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ea44f"/>
                </a:solidFill>
                <a:latin typeface="Arial"/>
              </a:rPr>
              <a:t>Wellness</a:t>
            </a: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ea typeface="Geneva"/>
              </a:rPr>
              <a:t>Module</a:t>
            </a:r>
            <a:r>
              <a:rPr b="1" lang="en-US" sz="6800" spc="-1" strike="noStrike">
                <a:solidFill>
                  <a:srgbClr val="fbefb3"/>
                </a:solidFill>
                <a:latin typeface="Arial"/>
                <a:ea typeface="Geneva"/>
              </a:rPr>
              <a:t>2</a:t>
            </a:r>
            <a:endParaRPr b="0" lang="en-US" sz="6800" spc="-1" strike="noStrike">
              <a:solidFill>
                <a:srgbClr val="000000"/>
              </a:solidFill>
              <a:latin typeface="Times New Roman"/>
            </a:endParaRPr>
          </a:p>
        </p:txBody>
      </p:sp>
      <p:sp>
        <p:nvSpPr>
          <p:cNvPr id="51" name="Rectangle 4"/>
          <p:cNvSpPr/>
          <p:nvPr/>
        </p:nvSpPr>
        <p:spPr>
          <a:xfrm>
            <a:off x="0" y="5888160"/>
            <a:ext cx="91440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c14"/>
                </a:solidFill>
                <a:latin typeface="Arial"/>
                <a:ea typeface="Sakkal Majalla"/>
              </a:rPr>
              <a:t>Eat Well &amp; Keep Moving</a:t>
            </a:r>
            <a:endParaRPr b="0" lang="en-US" sz="2400" spc="-1" strike="noStrike">
              <a:solidFill>
                <a:srgbClr val="000000"/>
              </a:solidFill>
              <a:latin typeface="Times New Roman"/>
            </a:endParaRPr>
          </a:p>
        </p:txBody>
      </p:sp>
      <p:sp>
        <p:nvSpPr>
          <p:cNvPr id="52" name="TextBox 1"/>
          <p:cNvSpPr/>
          <p:nvPr/>
        </p:nvSpPr>
        <p:spPr>
          <a:xfrm>
            <a:off x="0" y="656748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Activities to Enhance </a:t>
            </a:r>
            <a:br>
              <a:rPr sz="3600"/>
            </a:br>
            <a:r>
              <a:rPr b="1" lang="en-US" sz="3600" spc="-1" strike="noStrike">
                <a:solidFill>
                  <a:srgbClr val="3ea44f"/>
                </a:solidFill>
                <a:latin typeface="Arial"/>
              </a:rPr>
              <a:t>Physical Wellness</a:t>
            </a:r>
            <a:endParaRPr b="1" lang="en-US" sz="3600" spc="-1" strike="noStrike">
              <a:solidFill>
                <a:srgbClr val="3ea44f"/>
              </a:solidFill>
              <a:latin typeface="Arial"/>
            </a:endParaRPr>
          </a:p>
        </p:txBody>
      </p:sp>
      <p:sp>
        <p:nvSpPr>
          <p:cNvPr id="72" name=""/>
          <p:cNvSpPr txBox="1"/>
          <p:nvPr/>
        </p:nvSpPr>
        <p:spPr>
          <a:xfrm>
            <a:off x="571680" y="2133720"/>
            <a:ext cx="8051760" cy="4473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oking cess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erob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lking club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trai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literac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ing healthy foods and cooking with healthy oi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 eating</a:t>
            </a:r>
            <a:endParaRPr b="1"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743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Activities to Enhance </a:t>
            </a:r>
            <a:br>
              <a:rPr sz="3600"/>
            </a:br>
            <a:r>
              <a:rPr b="1" lang="en-US" sz="3600" spc="-1" strike="noStrike">
                <a:solidFill>
                  <a:srgbClr val="3ea44f"/>
                </a:solidFill>
                <a:latin typeface="Arial"/>
              </a:rPr>
              <a:t>Physical Wellness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74" name=""/>
          <p:cNvSpPr txBox="1"/>
          <p:nvPr/>
        </p:nvSpPr>
        <p:spPr>
          <a:xfrm>
            <a:off x="571680" y="2260080"/>
            <a:ext cx="8051760" cy="348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 ea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we eat what we eat?</a:t>
            </a:r>
            <a:endParaRPr b="0" lang="en-US" sz="2400" spc="-1" strike="noStrike">
              <a:solidFill>
                <a:srgbClr val="000000"/>
              </a:solidFill>
              <a:latin typeface="Arial"/>
            </a:endParaRPr>
          </a:p>
        </p:txBody>
      </p:sp>
      <p:sp>
        <p:nvSpPr>
          <p:cNvPr id="75" name="Text Box 4"/>
          <p:cNvSpPr/>
          <p:nvPr/>
        </p:nvSpPr>
        <p:spPr>
          <a:xfrm>
            <a:off x="117360" y="6261120"/>
            <a:ext cx="890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h &amp; Cheung. (2010). Savor: Mindful Eating, Mindful Life. HarperOne. www.savorthebook.com</a:t>
            </a:r>
            <a:endParaRPr b="0" lang="en-US" sz="12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647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pirit: Activities to Enhance</a:t>
            </a:r>
            <a:br>
              <a:rPr sz="3600"/>
            </a:br>
            <a:r>
              <a:rPr b="1" lang="en-US" sz="3600" spc="-1" strike="noStrike">
                <a:solidFill>
                  <a:srgbClr val="3ea44f"/>
                </a:solidFill>
                <a:latin typeface="Arial"/>
              </a:rPr>
              <a:t>Social and Spiritual Wellness</a:t>
            </a:r>
            <a:endParaRPr b="1" lang="en-US" sz="3600" spc="-1" strike="noStrike">
              <a:solidFill>
                <a:srgbClr val="3ea44f"/>
              </a:solidFill>
              <a:latin typeface="Arial"/>
            </a:endParaRPr>
          </a:p>
        </p:txBody>
      </p:sp>
      <p:sp>
        <p:nvSpPr>
          <p:cNvPr id="77" name=""/>
          <p:cNvSpPr txBox="1"/>
          <p:nvPr/>
        </p:nvSpPr>
        <p:spPr>
          <a:xfrm>
            <a:off x="571680" y="21337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urnal writing and writing grou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ing time in n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rde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n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ing to musi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t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ga, Tai Chi</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estions for Discussion</a:t>
            </a:r>
            <a:endParaRPr b="1" lang="en-US" sz="3600" spc="-1" strike="noStrike">
              <a:solidFill>
                <a:srgbClr val="3ea44f"/>
              </a:solidFill>
              <a:latin typeface="Arial"/>
            </a:endParaRPr>
          </a:p>
        </p:txBody>
      </p:sp>
      <p:sp>
        <p:nvSpPr>
          <p:cNvPr id="79"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s wellness importan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ould you rate the overall health of the students in this school? Why?</a:t>
            </a:r>
            <a:endParaRPr b="1" lang="en-US" sz="2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90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an You Ring the Wellness Bell?</a:t>
            </a:r>
            <a:endParaRPr b="1" lang="en-US" sz="3600" spc="-1" strike="noStrike">
              <a:solidFill>
                <a:srgbClr val="3ea44f"/>
              </a:solidFill>
              <a:latin typeface="Arial"/>
            </a:endParaRPr>
          </a:p>
        </p:txBody>
      </p:sp>
      <p:pic>
        <p:nvPicPr>
          <p:cNvPr id="81" name="Picture 9" descr="288335_E4147"/>
          <p:cNvPicPr/>
          <p:nvPr/>
        </p:nvPicPr>
        <p:blipFill>
          <a:blip r:embed="rId1"/>
          <a:stretch/>
        </p:blipFill>
        <p:spPr>
          <a:xfrm>
            <a:off x="2832120" y="1409760"/>
            <a:ext cx="3300480" cy="48830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288594_E4147"/>
          <p:cNvPicPr/>
          <p:nvPr/>
        </p:nvPicPr>
        <p:blipFill>
          <a:blip r:embed="rId1"/>
          <a:stretch/>
        </p:blipFill>
        <p:spPr>
          <a:xfrm>
            <a:off x="2057400" y="531720"/>
            <a:ext cx="4976640" cy="574848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tress Reduction and the </a:t>
            </a:r>
            <a:br>
              <a:rPr sz="3600"/>
            </a:br>
            <a:r>
              <a:rPr b="1" lang="en-US" sz="3600" spc="-1" strike="noStrike">
                <a:solidFill>
                  <a:srgbClr val="3ea44f"/>
                </a:solidFill>
                <a:latin typeface="Arial"/>
              </a:rPr>
              <a:t>Relaxation Response*</a:t>
            </a:r>
            <a:endParaRPr b="1" lang="en-US" sz="3600" spc="-1" strike="noStrike">
              <a:solidFill>
                <a:srgbClr val="3ea44f"/>
              </a:solidFill>
              <a:latin typeface="Arial"/>
            </a:endParaRPr>
          </a:p>
        </p:txBody>
      </p:sp>
      <p:sp>
        <p:nvSpPr>
          <p:cNvPr id="8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management is a key aspect of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xation response is one way to practice mindfulness. It is a physical state in which heart rate, blood pressure, and muscle tension decrea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citing the relaxation response can help reduce stress in our lives.</a:t>
            </a:r>
            <a:endParaRPr b="1" lang="en-US" sz="2800" spc="-1" strike="noStrike">
              <a:solidFill>
                <a:srgbClr val="000000"/>
              </a:solidFill>
              <a:latin typeface="Arial"/>
            </a:endParaRPr>
          </a:p>
        </p:txBody>
      </p:sp>
      <p:sp>
        <p:nvSpPr>
          <p:cNvPr id="85" name="Text Box 4"/>
          <p:cNvSpPr/>
          <p:nvPr/>
        </p:nvSpPr>
        <p:spPr>
          <a:xfrm>
            <a:off x="103320" y="6497640"/>
            <a:ext cx="893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apted from the Benson-Henry Institute for Mind Body Medicine at Massachusetts General Hospital</a:t>
            </a:r>
            <a:endParaRPr b="0" lang="en-US" sz="12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liciting the Relaxation Response Through Mindful Breathing</a:t>
            </a:r>
            <a:endParaRPr b="1" lang="en-US" sz="3600" spc="-1" strike="noStrike">
              <a:solidFill>
                <a:srgbClr val="3ea44f"/>
              </a:solidFill>
              <a:latin typeface="Arial"/>
            </a:endParaRPr>
          </a:p>
        </p:txBody>
      </p:sp>
      <p:sp>
        <p:nvSpPr>
          <p:cNvPr id="87" name=""/>
          <p:cNvSpPr txBox="1"/>
          <p:nvPr/>
        </p:nvSpPr>
        <p:spPr>
          <a:xfrm>
            <a:off x="571680" y="177120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 quietly in a comfortable posi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a repeated word or phrase or on the breat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egard everyday thoughts that come to mi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y focused on your word or phrase or on your breath.</a:t>
            </a:r>
            <a:endParaRPr b="1" lang="en-US" sz="2800" spc="-1" strike="noStrike">
              <a:solidFill>
                <a:srgbClr val="000000"/>
              </a:solidFill>
              <a:latin typeface="Arial"/>
            </a:endParaRPr>
          </a:p>
        </p:txBody>
      </p:sp>
      <p:sp>
        <p:nvSpPr>
          <p:cNvPr id="88" name="Text Box 4"/>
          <p:cNvSpPr/>
          <p:nvPr/>
        </p:nvSpPr>
        <p:spPr>
          <a:xfrm>
            <a:off x="103320" y="6497640"/>
            <a:ext cx="893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the Benson-Henry Institute for Mind Body Medicine at Massachusetts General Hospital</a:t>
            </a:r>
            <a:endParaRPr b="0" lang="en-US" sz="12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90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ifestyle Change Card</a:t>
            </a:r>
            <a:endParaRPr b="1" lang="en-US" sz="3600" spc="-1" strike="noStrike">
              <a:solidFill>
                <a:srgbClr val="3ea44f"/>
              </a:solidFill>
              <a:latin typeface="Arial"/>
            </a:endParaRPr>
          </a:p>
        </p:txBody>
      </p:sp>
      <p:sp>
        <p:nvSpPr>
          <p:cNvPr id="90" name="Rectangle 3"/>
          <p:cNvSpPr/>
          <p:nvPr/>
        </p:nvSpPr>
        <p:spPr>
          <a:xfrm>
            <a:off x="281160" y="1389240"/>
            <a:ext cx="8302320" cy="521316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sonal Health Declaration of Independence</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believe that among my inalienable rights are the rights to health, happiness, and a longer life. To secure these rights, I will become more conscious of the whole person that is me. This plan is duly constituted by me and will be reviewed regularly.</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pledge to put into practice, with verve, that which I have written for each area:</a:t>
            </a:r>
            <a:endParaRPr b="0" lang="en-US" sz="1800" spc="-1" strike="noStrike">
              <a:solidFill>
                <a:srgbClr val="000000"/>
              </a:solidFill>
              <a:latin typeface="Times New Roman"/>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ysical ___________________________________</a:t>
            </a:r>
            <a:endParaRPr b="0" lang="en-US" sz="1800" spc="-1" strike="noStrike">
              <a:solidFill>
                <a:srgbClr val="000000"/>
              </a:solidFill>
              <a:latin typeface="Times New Roman"/>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_____________________________________</a:t>
            </a:r>
            <a:endParaRPr b="0" lang="en-US" sz="1800" spc="-1" strike="noStrike">
              <a:solidFill>
                <a:srgbClr val="000000"/>
              </a:solidFill>
              <a:latin typeface="Times New Roman"/>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otional _________________________________</a:t>
            </a:r>
            <a:endParaRPr b="0" lang="en-US" sz="1800" spc="-1" strike="noStrike">
              <a:solidFill>
                <a:srgbClr val="000000"/>
              </a:solidFill>
              <a:latin typeface="Times New Roman"/>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llectual _________________________________</a:t>
            </a:r>
            <a:endParaRPr b="0" lang="en-US" sz="1800" spc="-1" strike="noStrike">
              <a:solidFill>
                <a:srgbClr val="000000"/>
              </a:solidFill>
              <a:latin typeface="Times New Roman"/>
            </a:endParaRPr>
          </a:p>
          <a:p>
            <a:pPr lvl="2" marL="1143000" indent="-228600">
              <a:lnSpc>
                <a:spcPct val="1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iritual ___________________________________</a:t>
            </a:r>
            <a:endParaRPr b="0" lang="en-US" sz="18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1901880" y="2714760"/>
            <a:ext cx="545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0" lang="en-US" sz="4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genda</a:t>
            </a:r>
            <a:endParaRPr b="1" lang="en-US" sz="3600" spc="-1" strike="noStrike">
              <a:solidFill>
                <a:srgbClr val="3ea44f"/>
              </a:solidFill>
              <a:latin typeface="Arial"/>
            </a:endParaRPr>
          </a:p>
        </p:txBody>
      </p:sp>
      <p:sp>
        <p:nvSpPr>
          <p:cNvPr id="54"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of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ys we can achieve mental, physical, and social wellne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reduction and the relaxation respon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 a commitment to healthy lifestyle chan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236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Wellness?</a:t>
            </a:r>
            <a:endParaRPr b="1" lang="en-US" sz="3600" spc="-1" strike="noStrike">
              <a:solidFill>
                <a:srgbClr val="3ea44f"/>
              </a:solidFill>
              <a:latin typeface="Arial"/>
            </a:endParaRPr>
          </a:p>
        </p:txBody>
      </p:sp>
      <p:sp>
        <p:nvSpPr>
          <p:cNvPr id="56" name="Text Box 4"/>
          <p:cNvSpPr/>
          <p:nvPr/>
        </p:nvSpPr>
        <p:spPr>
          <a:xfrm>
            <a:off x="693720" y="2065320"/>
            <a:ext cx="7580160" cy="25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llness is a choice of lifestyle marked by a balance of mind, body, and spirit.</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ody: Physical Wellness</a:t>
            </a:r>
            <a:endParaRPr b="1" lang="en-US" sz="3600" spc="-1" strike="noStrike">
              <a:solidFill>
                <a:srgbClr val="3ea44f"/>
              </a:solidFill>
              <a:latin typeface="Arial"/>
            </a:endParaRPr>
          </a:p>
        </p:txBody>
      </p:sp>
      <p:sp>
        <p:nvSpPr>
          <p:cNvPr id="58"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ellness involves aspects of health related directly to the bod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ellness means you can get through the day with enough energy for work and play.</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Emotional and Intellectual Wellness</a:t>
            </a:r>
            <a:endParaRPr b="1" lang="en-US" sz="3600" spc="-1" strike="noStrike">
              <a:solidFill>
                <a:srgbClr val="3ea44f"/>
              </a:solidFill>
              <a:latin typeface="Arial"/>
            </a:endParaRPr>
          </a:p>
        </p:txBody>
      </p:sp>
      <p:sp>
        <p:nvSpPr>
          <p:cNvPr id="60" name=""/>
          <p:cNvSpPr txBox="1"/>
          <p:nvPr/>
        </p:nvSpPr>
        <p:spPr>
          <a:xfrm>
            <a:off x="571680" y="215856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 wellness involves a sense of self-worth and an acceptance of things that are different.</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llectual wellness involves your ability to use the knowledge that you acquire.</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965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pirit: Social and Spiritual Wellness</a:t>
            </a:r>
            <a:endParaRPr b="1" lang="en-US" sz="3600" spc="-1" strike="noStrike">
              <a:solidFill>
                <a:srgbClr val="3ea44f"/>
              </a:solidFill>
              <a:latin typeface="Arial"/>
            </a:endParaRPr>
          </a:p>
        </p:txBody>
      </p:sp>
      <p:sp>
        <p:nvSpPr>
          <p:cNvPr id="62"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wellness involves interacting with people and the environment and having satisfying relationshi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 wellness involves your relationship to other living things and the role of spiritual direction in your life, working to find potential and find harmony in living.</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Group Activity: Mind, Body, Spirit</a:t>
            </a:r>
            <a:endParaRPr b="1" lang="en-US" sz="3600" spc="-1" strike="noStrike">
              <a:solidFill>
                <a:srgbClr val="3ea44f"/>
              </a:solidFill>
              <a:latin typeface="Arial"/>
            </a:endParaRPr>
          </a:p>
        </p:txBody>
      </p:sp>
      <p:pic>
        <p:nvPicPr>
          <p:cNvPr id="64" name="Picture 6" descr="288590_E4147"/>
          <p:cNvPicPr/>
          <p:nvPr/>
        </p:nvPicPr>
        <p:blipFill>
          <a:blip r:embed="rId1"/>
          <a:stretch/>
        </p:blipFill>
        <p:spPr>
          <a:xfrm>
            <a:off x="1805040" y="1550880"/>
            <a:ext cx="5537160" cy="4791240"/>
          </a:xfrm>
          <a:prstGeom prst="rect">
            <a:avLst/>
          </a:prstGeom>
          <a:ln w="0">
            <a:noFill/>
          </a:ln>
        </p:spPr>
      </p:pic>
      <p:sp>
        <p:nvSpPr>
          <p:cNvPr id="65" name="TextBox 1"/>
          <p:cNvSpPr/>
          <p:nvPr/>
        </p:nvSpPr>
        <p:spPr>
          <a:xfrm>
            <a:off x="3390840" y="5283360"/>
            <a:ext cx="21081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cial wellness</a:t>
            </a:r>
            <a:endParaRPr b="0" lang="en-US" sz="1900" spc="-1" strike="noStrike">
              <a:solidFill>
                <a:srgbClr val="000000"/>
              </a:solidFill>
              <a:latin typeface="Times New Roman"/>
            </a:endParaRPr>
          </a:p>
        </p:txBody>
      </p:sp>
      <p:sp>
        <p:nvSpPr>
          <p:cNvPr id="66" name="Rectangle 2"/>
          <p:cNvSpPr/>
          <p:nvPr/>
        </p:nvSpPr>
        <p:spPr>
          <a:xfrm>
            <a:off x="2120760" y="2730600"/>
            <a:ext cx="1866960" cy="266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Activities to Enhance Psychological Wellness</a:t>
            </a:r>
            <a:endParaRPr b="1" lang="en-US" sz="3600" spc="-1" strike="noStrike">
              <a:solidFill>
                <a:srgbClr val="3ea44f"/>
              </a:solidFill>
              <a:latin typeface="Arial"/>
            </a:endParaRPr>
          </a:p>
        </p:txBody>
      </p:sp>
      <p:sp>
        <p:nvSpPr>
          <p:cNvPr id="68" name=""/>
          <p:cNvSpPr txBox="1"/>
          <p:nvPr/>
        </p:nvSpPr>
        <p:spPr>
          <a:xfrm>
            <a:off x="571680" y="2158560"/>
            <a:ext cx="8051760" cy="4318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groups for grieving</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management techniqu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ated communication class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ge therapy</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group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ep breathing techniques</a:t>
            </a: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dfulness</a:t>
            </a:r>
            <a:endParaRPr b="1" lang="en-US" sz="2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a:t>
            </a:r>
            <a:endParaRPr b="1"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728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ind: Activities to Enhance Psychological Wellness </a:t>
            </a:r>
            <a:r>
              <a:rPr b="1" i="1" lang="en-US" sz="3600" spc="-1" strike="noStrike">
                <a:solidFill>
                  <a:srgbClr val="3ea44f"/>
                </a:solidFill>
                <a:latin typeface="Arial"/>
              </a:rPr>
              <a:t>(continued)</a:t>
            </a:r>
            <a:endParaRPr b="1" lang="en-US" sz="3600" spc="-1" strike="noStrike">
              <a:solidFill>
                <a:srgbClr val="3ea44f"/>
              </a:solidFill>
              <a:latin typeface="Arial"/>
            </a:endParaRPr>
          </a:p>
        </p:txBody>
      </p:sp>
      <p:sp>
        <p:nvSpPr>
          <p:cNvPr id="70" name=""/>
          <p:cNvSpPr txBox="1"/>
          <p:nvPr/>
        </p:nvSpPr>
        <p:spPr>
          <a:xfrm>
            <a:off x="571680" y="215856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ndfulness </a:t>
            </a:r>
            <a:r>
              <a:rPr b="1" lang="en-US" sz="2800" spc="-1" strike="noStrike">
                <a:solidFill>
                  <a:srgbClr val="000000"/>
                </a:solidFill>
                <a:latin typeface="Arial"/>
              </a:rPr>
              <a:t>is the practice of being fully present in each moment. Be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ceptive</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en</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epting of things as they are</a:t>
            </a:r>
            <a:endParaRPr b="1" lang="en-US" sz="2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dcterms:modified xsi:type="dcterms:W3CDTF">2015-11-19T16:08:43Z</dcterms:modified>
  <cp:revision>133</cp:revision>
  <dc:subject/>
  <dc:title>chapter ??</dc:title>
</cp:coreProperties>
</file>