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E439-A53A-4679-97FF-347E4A386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D795CD-69FA-4290-A80F-3D8E43D11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session, as well as a portion of the one that follows, addresses issues of physical activity. Depending on your background, you may want to ask a physical educator to help lead the following session. However, any trainer familiar with the basics of flexibility and fitness can lead this sess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back from your break. Eating healthfully is only one part of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rogram. The other part is getting adequate physical activity. This session will talk about the benefits of regular physical activity and introduce you to the safe workout that you’ll be teaching stud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5A2B-C756-439D-A6CE-E87569BA9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people, maintaining a regular program of physical activity can be a challenge. Here’s some ideas that may help you stick wi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 ask for suggestions from participa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AA02-48BC-45AB-A681-B327325AB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hanges can make a big difference in our level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lying on the couch and watching TV, trying exercising while you watch TV. Instead of using the elevator, try using the stairs. Instead of sitting around on a Sunday afternoon, try going for a walk. Instead of playing computer games, try playing ba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C8A9-4B0E-4104-88CF-0E59ABAE9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you don’t have time to exercise? Try parking a little farther from your job so you can fit in a 10-minute brisk walk to work. Bike to work or to the grocery store so you can get extra physical activity throughout the day. Take the stairs whenever you can. And during your lunch break, try taking a quick wal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868C-48FA-41F0-B1CD-F1E38384B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does not have to be boring or tedious. To make it more fun, do activities with your family or friends. Play with your kids or your grandchildren. Go out and work in the garden. Join a league sport, or even go danc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0E83-6A28-4C9F-89AB-EC890FF2D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2A50-EE29-4B83-AED5-6A4D82929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52D2-EF53-46FE-ADEB-9B565AA2F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it’s your move! Physical activity has many benefits. So try to make it a regular part of your d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95BF-413B-4770-AD58-CF0D155B6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has two primary physical activity goals.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recreational screen time, we mean time spent watching TV, movies, playing computer games, spending time online for fun, and so 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9315-F4D5-4F8A-AC36-B79F5C168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lassroom lessons in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call for you to </a:t>
            </a:r>
            <a:r>
              <a:rPr b="0" i="1" lang="en-US" sz="1200" spc="-1" strike="noStrike">
                <a:solidFill>
                  <a:srgbClr val="000000"/>
                </a:solidFill>
                <a:latin typeface="Times New Roman"/>
              </a:rPr>
              <a:t>do</a:t>
            </a:r>
            <a:r>
              <a:rPr b="0" lang="en-US" sz="1200" spc="-1" strike="noStrike">
                <a:solidFill>
                  <a:srgbClr val="000000"/>
                </a:solidFill>
                <a:latin typeface="Times New Roman"/>
              </a:rPr>
              <a:t> physical activity with your students in the class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connect nutrition with physical activity and helps them get some of the regular activity they need to be healthy and alert. Getting physical activity is especially important since many school systems are cutting back on physical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lessons are in no way meant to replace physical education classes. They are simply meant to supplement a school’s physical education progra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871E-3CF7-4954-9D26-15117508C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hysical activity classroom lessons are all based on a four-part framework called </a:t>
            </a:r>
            <a:r>
              <a:rPr b="0" i="1" lang="en-US" sz="1200" spc="-1" strike="noStrike">
                <a:solidFill>
                  <a:srgbClr val="000000"/>
                </a:solidFill>
                <a:latin typeface="Times New Roman"/>
              </a:rPr>
              <a:t>the safe workout.</a:t>
            </a:r>
            <a:r>
              <a:rPr b="0" lang="en-US" sz="1200" spc="-1" strike="noStrike">
                <a:solidFill>
                  <a:srgbClr val="000000"/>
                </a:solidFill>
                <a:latin typeface="Times New Roman"/>
              </a:rPr>
              <a:t> Essentially, the safe workout teaches students the safe way to be phys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ssion, we will have a chance to review a safe workout lesson. In this session, the focus will be on the structure of a safe wor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our parts of the safe workout taught to students.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fe workout teaches students to warm up (step 1) before beginning any workout. After this, the students do their main fitness activity (step 2), such as dance or play basketball. After the fitness activity, they cool down (step 3) and stretch (step 4).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DC8C-DABE-4472-94E9-AD1CF14DA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physically active has many health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5B82-4F18-4259-86DD-54F0F362C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in the classroom may be unfamiliar to many of you, but you can do it easily. The lessons are fun and exciting, and students love to move. Because of this, the safe workout lessons were some of the most popular lessons in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ilot program in Balti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have to be Olympians to lead students through a safe workout. In fact, you don’t even have to be active yourself. You can designate student coaches to demonstrate all the physical activities and lead the class through the different parts of the wor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the different components of the safe worko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4044-078A-40E6-926D-6F757FDFE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fe workout lessons succeed in a variety of settings. While they work best in an area with open space (such as a gymnasium or cafeteria), they have also been successfully taught in the classroom itself—usually with a slight rearranging of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go over example room arrangements o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8420-4752-4433-BB8A-617D4A758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rm-up can help prevent injuries, increase your body temperature, and get your body ready for the rest of the workout. It involves some type of slow activity—slow jogging in place or slow jumping jacks—typically for 5 to 10 minutes. It’s best if the slow movements are similar to those that will be done in the fitnes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find a space where they are not bumping into each other. If it is possible, placing students in a circle work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up out of our chairs and do a slow warm-up here, just for 1 to 2 minutes. </a:t>
            </a:r>
            <a:r>
              <a:rPr b="0" i="1" lang="en-US" sz="1200" spc="-1" strike="noStrike">
                <a:solidFill>
                  <a:srgbClr val="000000"/>
                </a:solidFill>
                <a:latin typeface="Times New Roman"/>
              </a:rPr>
              <a:t>(Lead group in walk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1115-4C00-4604-AFD1-491478D6D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tness activity is made up of two components—strength fitness and endurance fitnes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fitness improves the ability of your muscles to move or resist a force or workload; it helps you perform daily tasks without tiring, prevents injuries, and improves your skills in games and sport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ance fitness builds your cardiorespiratory fitness and improves your heart, lungs, and blood vessels; it can also give you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he fitness activities let students work on their endurance fitness. Students should move nonstop but keep to a pace they can maintain for the entire time. They need to pace, not race. During the fitness activity games, students need to move with safety and contro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100F-375E-40CB-B4D9-98E89A98B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udents have completed the fitness activity, it’s time to cool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ol-down basically involves walking slowly in place, so the body can recover from the fitness activity, preventing injuri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83A9-EAD5-4062-B62C-16E55D205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age of the workout is the stretch. This also helps the body recover, improves flexibility, and decreases the chance of injury. While everyone uses the same positions to stretch, individual flexibility determines how deeply you can stretch. Stretching after a workout is the best time to improve 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key points for safe stretch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tch beyond your comfort level.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each stretch for 10 to 15 seconds maximum.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ounce while you’re stretching; just try to hold each stretch gently.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stretch slowly.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ry to use good form to prevent injur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9889-2106-446D-A7F5-3D0DF5267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find stretches in the Fitness Diagrams folder of the Web Resource. Let’s go through a couple of stretches, starting with the neck stre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ly drop your left ear toward your shoulder, being careful not to overstretch. Let’s hold that for 10 seconds—1 Mississippi, 2 Mississippi, 3 Mississippi.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tly bring your head back to center, and repeat the stretch on your left side. I’ll count to 10—1 Mississippi, 2 Mississippi, 3 Mississippi. . .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715F-6F48-40C8-9366-09A487602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Another great stretch combination is palms to ceiling—see the picture on the left—followed by the wave, the pictur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lms to ceiling, reach your arms straight up overhead, with your palms facing upward, and try to stretch  your palms toward the ceiling. Try to keep your shoulders relaxed—don’t let them creep up to your ears. And hold: one….two….three…f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Let’s do the wave. With your hands overhead and palms facing the front of the room, bend sideways to the right, gently. One…two…three…f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back up to center, and then let’s bend to the left. One…two…three…fou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346C-3BEF-420A-8337-5F0BABCA6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the safe workout follows a logical pattern that is very easy to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10-minute break. In the next session, you will get to put your knowledge into practice as you review the nutrition and physical activity classroom less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64AF-0234-487F-B74E-E630174FA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mote health, psychological well-being, and a healthy body weight, engage in regular physical activity and reduce sedentary activities such as watching television or surfing the We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7D49-5F5A-44C7-9E86-F31E9C5DF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est physical activity recommendations for adults are to be physically active for at least 30 minutes on all or most days of the week—engage in moderate-intensity physical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greater health benefits and to control body weight, increase the intensity or the duration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60 minutes per day of physical activity may be needed to prevent unhealthy weight gain in adulthood. You may need even more than 60 minutes if you want to keep off weight that you have lo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461E-6EF9-4C66-8C1F-C06281994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if you are short on time—you don’t necessarily need to accumulate your 30 to 60 minutes per day all in one stretch. The total amount of activity is what counts for your health and for burning calories. So you can be active for a steady 30 to 60 minutes, or you can accumulate your activity in 3 to 6 short (10-minute) bouts throughout the d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3325-789A-4B26-87B2-317296101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nd teenagers should get at least 60 minutes of physical activity every day, which can be broken up into multiple sessions throughout th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include active free play, as well as structured activities that are age-appropriate, enjoyable, and offer variety. Any episode of moderate- or vigorous-intensity physical activity, however brief, counts toward the daily go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BFD8-8E9E-4855-A3E8-B4595FF55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counts as moderate physical activity? </a:t>
            </a:r>
            <a:r>
              <a:rPr b="0" i="1" lang="en-US" sz="1200" spc="-1" strike="noStrike">
                <a:solidFill>
                  <a:srgbClr val="000000"/>
                </a:solidFill>
                <a:latin typeface="Times New Roman"/>
              </a:rPr>
              <a:t>(Read list from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68D6-ABE6-4140-BFAA-67C7BF074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unts as vigorous physical activity? </a:t>
            </a:r>
            <a:r>
              <a:rPr b="0" i="1" lang="en-US" sz="1200" spc="-1" strike="noStrike">
                <a:solidFill>
                  <a:srgbClr val="000000"/>
                </a:solidFill>
                <a:latin typeface="Times New Roman"/>
              </a:rPr>
              <a:t>(Read list from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1998-D335-4241-B60D-1E7EF1B53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tips for avoiding injury when you’re being activ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warm up before beginning and cool down at the end (we’ll talk more about this later in this session when we go over the safe workout).</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are wearing appropriate shoes and cloth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 down or stop if you feel pain, fatigue, or shortness of brea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522520"/>
            <a:ext cx="854856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he Safe </a:t>
            </a:r>
            <a:br>
              <a:rPr sz="7200"/>
            </a:br>
            <a:r>
              <a:rPr b="1" lang="en-US" sz="7200" spc="-1" strike="noStrike">
                <a:solidFill>
                  <a:srgbClr val="3ea44f"/>
                </a:solidFill>
                <a:latin typeface="Arial"/>
              </a:rPr>
              <a:t>Workout</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5</a:t>
            </a:r>
            <a:endParaRPr b="0" lang="en-US" sz="6800" spc="-1" strike="noStrike">
              <a:solidFill>
                <a:srgbClr val="000000"/>
              </a:solidFill>
              <a:latin typeface="Times New Roman"/>
            </a:endParaRPr>
          </a:p>
        </p:txBody>
      </p:sp>
      <p:sp>
        <p:nvSpPr>
          <p:cNvPr id="51" name="Rectangle 4"/>
          <p:cNvSpPr/>
          <p:nvPr/>
        </p:nvSpPr>
        <p:spPr>
          <a:xfrm>
            <a:off x="0" y="577368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1"/>
          <p:cNvSpPr/>
          <p:nvPr/>
        </p:nvSpPr>
        <p:spPr>
          <a:xfrm>
            <a:off x="0" y="643896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ips to Stick With It!</a:t>
            </a:r>
            <a:endParaRPr b="1" lang="en-US" sz="3600" spc="-1" strike="noStrike">
              <a:solidFill>
                <a:srgbClr val="3ea44f"/>
              </a:solidFill>
              <a:latin typeface="Arial"/>
            </a:endParaRPr>
          </a:p>
        </p:txBody>
      </p:sp>
      <p:sp>
        <p:nvSpPr>
          <p:cNvPr id="71" name=""/>
          <p:cNvSpPr txBox="1"/>
          <p:nvPr/>
        </p:nvSpPr>
        <p:spPr>
          <a:xfrm>
            <a:off x="571680" y="173628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ahead and find activities that fit into your lif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simple goals and reward yourself for reaching the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y different types of activities so you don’t get bor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an activity diary.</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ays to Get Active</a:t>
            </a:r>
            <a:endParaRPr b="1" lang="en-US" sz="3600" spc="-1" strike="noStrike">
              <a:solidFill>
                <a:srgbClr val="3ea44f"/>
              </a:solidFill>
              <a:latin typeface="Arial"/>
            </a:endParaRPr>
          </a:p>
        </p:txBody>
      </p:sp>
      <p:sp>
        <p:nvSpPr>
          <p:cNvPr id="73" name=""/>
          <p:cNvSpPr txBox="1"/>
          <p:nvPr/>
        </p:nvSpPr>
        <p:spPr>
          <a:xfrm>
            <a:off x="571320" y="1684440"/>
            <a:ext cx="3949560" cy="431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of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ying on the couch and watching TV,</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elevato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ting around,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ying computer gam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
          <p:cNvSpPr txBox="1"/>
          <p:nvPr/>
        </p:nvSpPr>
        <p:spPr>
          <a:xfrm>
            <a:off x="4673520" y="1666440"/>
            <a:ext cx="3949920" cy="3775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ing while you watch TV.</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stair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ing for a walk.</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ying ball.</a:t>
            </a:r>
            <a:endParaRPr b="1" lang="en-US" sz="2800" spc="-1" strike="noStrike">
              <a:solidFill>
                <a:srgbClr val="000000"/>
              </a:solidFill>
              <a:latin typeface="Arial"/>
            </a:endParaRPr>
          </a:p>
        </p:txBody>
      </p:sp>
      <p:sp>
        <p:nvSpPr>
          <p:cNvPr id="75" name="Text Box 8"/>
          <p:cNvSpPr/>
          <p:nvPr/>
        </p:nvSpPr>
        <p:spPr>
          <a:xfrm>
            <a:off x="111240" y="6464160"/>
            <a:ext cx="893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the California Department of Health Services—ON THE MOVE!</a:t>
            </a:r>
            <a:endParaRPr b="0" lang="en-US" sz="12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ays to Fit Activity Into a Busy Day</a:t>
            </a:r>
            <a:endParaRPr b="1" lang="en-US" sz="3600" spc="-1" strike="noStrike">
              <a:solidFill>
                <a:srgbClr val="3ea44f"/>
              </a:solidFill>
              <a:latin typeface="Arial"/>
            </a:endParaRPr>
          </a:p>
        </p:txBody>
      </p:sp>
      <p:sp>
        <p:nvSpPr>
          <p:cNvPr id="77"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k a little farther from your job to fit in a 10-minute brisk walk to wor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ke to work or to the grocery sto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the stairs whenever you can.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lk on your lunch break.</a:t>
            </a:r>
            <a:endParaRPr b="1" lang="en-US" sz="2800" spc="-1" strike="noStrike">
              <a:solidFill>
                <a:srgbClr val="000000"/>
              </a:solidFill>
              <a:latin typeface="Arial"/>
            </a:endParaRPr>
          </a:p>
        </p:txBody>
      </p:sp>
      <p:sp>
        <p:nvSpPr>
          <p:cNvPr id="78" name="Text Box 8"/>
          <p:cNvSpPr/>
          <p:nvPr/>
        </p:nvSpPr>
        <p:spPr>
          <a:xfrm>
            <a:off x="111240" y="6464160"/>
            <a:ext cx="893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the California Department of Health Services—ON THE MOVE!</a:t>
            </a:r>
            <a:endParaRPr b="0" lang="en-US" sz="12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6868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ays to Make Physical Activity </a:t>
            </a:r>
            <a:br>
              <a:rPr sz="3600"/>
            </a:br>
            <a:r>
              <a:rPr b="1" lang="en-US" sz="3600" spc="-1" strike="noStrike">
                <a:solidFill>
                  <a:srgbClr val="3ea44f"/>
                </a:solidFill>
                <a:latin typeface="Arial"/>
              </a:rPr>
              <a:t>More Fun</a:t>
            </a:r>
            <a:endParaRPr b="1" lang="en-US" sz="3600" spc="-1" strike="noStrike">
              <a:solidFill>
                <a:srgbClr val="3ea44f"/>
              </a:solidFill>
              <a:latin typeface="Arial"/>
            </a:endParaRPr>
          </a:p>
        </p:txBody>
      </p:sp>
      <p:sp>
        <p:nvSpPr>
          <p:cNvPr id="80"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things with your family or frien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y with your kids or grandchildre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in your garde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 a league spor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dancing.</a:t>
            </a:r>
            <a:endParaRPr b="1" lang="en-US" sz="2800" spc="-1" strike="noStrike">
              <a:solidFill>
                <a:srgbClr val="000000"/>
              </a:solidFill>
              <a:latin typeface="Arial"/>
            </a:endParaRPr>
          </a:p>
        </p:txBody>
      </p:sp>
      <p:sp>
        <p:nvSpPr>
          <p:cNvPr id="81" name="Text Box 8"/>
          <p:cNvSpPr/>
          <p:nvPr/>
        </p:nvSpPr>
        <p:spPr>
          <a:xfrm>
            <a:off x="111240" y="6464160"/>
            <a:ext cx="893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the California Department of Health Services—ON THE MOVE!</a:t>
            </a:r>
            <a:endParaRPr b="0" lang="en-US" sz="12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4840" y="371160"/>
            <a:ext cx="853452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Can Regular Physical Activity Prevent?</a:t>
            </a:r>
            <a:endParaRPr b="1" lang="en-US" sz="3600" spc="-1" strike="noStrike">
              <a:solidFill>
                <a:srgbClr val="3ea44f"/>
              </a:solidFill>
              <a:latin typeface="Arial"/>
            </a:endParaRPr>
          </a:p>
        </p:txBody>
      </p:sp>
      <p:sp>
        <p:nvSpPr>
          <p:cNvPr id="83" name=""/>
          <p:cNvSpPr txBox="1"/>
          <p:nvPr/>
        </p:nvSpPr>
        <p:spPr>
          <a:xfrm>
            <a:off x="571680" y="1754280"/>
            <a:ext cx="8051760" cy="431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diseas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cancer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diabetes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ening of the bon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long-term diseas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ctivity can also slow the aging proces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Text Box 8"/>
          <p:cNvSpPr/>
          <p:nvPr/>
        </p:nvSpPr>
        <p:spPr>
          <a:xfrm>
            <a:off x="111240" y="6464160"/>
            <a:ext cx="893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the California Department of Health Services—ON THE MOVE!</a:t>
            </a:r>
            <a:endParaRPr b="0" lang="en-US" sz="12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51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Does Regular Physical Activity Help You Do?</a:t>
            </a:r>
            <a:endParaRPr b="1" lang="en-US" sz="3600" spc="-1" strike="noStrike">
              <a:solidFill>
                <a:srgbClr val="3ea44f"/>
              </a:solidFill>
              <a:latin typeface="Arial"/>
            </a:endParaRPr>
          </a:p>
        </p:txBody>
      </p:sp>
      <p:sp>
        <p:nvSpPr>
          <p:cNvPr id="86" name=""/>
          <p:cNvSpPr txBox="1"/>
          <p:nvPr/>
        </p:nvSpPr>
        <p:spPr>
          <a:xfrm>
            <a:off x="546120" y="1897200"/>
            <a:ext cx="8051760" cy="4317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body weight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blood cholestero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vate energy levels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stres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blood pressur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sleep</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digest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en depression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flexibility and balanc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 job performance</a:t>
            </a:r>
            <a:endParaRPr b="1" lang="en-US" sz="2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11240" y="3016080"/>
            <a:ext cx="8907480" cy="1508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Remember . . . It’s Your Mov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512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hysical Activity Goals</a:t>
            </a:r>
            <a:br>
              <a:rPr sz="3600"/>
            </a:br>
            <a:r>
              <a:rPr b="1" lang="en-US" sz="3600" spc="-1" strike="noStrike">
                <a:solidFill>
                  <a:srgbClr val="3ea44f"/>
                </a:solidFill>
                <a:latin typeface="Arial"/>
              </a:rPr>
              <a:t>of </a:t>
            </a: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89" name=""/>
          <p:cNvSpPr txBox="1"/>
          <p:nvPr/>
        </p:nvSpPr>
        <p:spPr>
          <a:xfrm>
            <a:off x="533520" y="1878120"/>
            <a:ext cx="6083280" cy="3317760"/>
          </a:xfrm>
          <a:prstGeom prst="rect">
            <a:avLst/>
          </a:prstGeom>
          <a:noFill/>
          <a:ln w="0">
            <a:noFill/>
          </a:ln>
        </p:spPr>
        <p:txBody>
          <a:bodyPr anchor="t">
            <a:normAutofit fontScale="83000"/>
          </a:bodyPr>
          <a:p>
            <a:pPr marL="442800" indent="-4428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ncrease students’ level of physical activity to at least an hour per day</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442800" indent="-4428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decrease students’ level of physical inactivity, specifically by limiting students’ television and other recreational screen time to 2 hours or less per day</a:t>
            </a:r>
            <a:endParaRPr b="1" lang="en-US" sz="2800" spc="-1" strike="noStrike">
              <a:solidFill>
                <a:srgbClr val="000000"/>
              </a:solidFill>
              <a:latin typeface="Arial"/>
            </a:endParaRPr>
          </a:p>
        </p:txBody>
      </p:sp>
      <p:pic>
        <p:nvPicPr>
          <p:cNvPr id="90" name="Picture 1024" descr="C:\Users\boo847\Desktop\StayActiveKidsHEP.jpg"/>
          <p:cNvPicPr/>
          <p:nvPr/>
        </p:nvPicPr>
        <p:blipFill>
          <a:blip r:embed="rId1"/>
          <a:stretch/>
        </p:blipFill>
        <p:spPr>
          <a:xfrm>
            <a:off x="6566040" y="1819440"/>
            <a:ext cx="2136600" cy="1968480"/>
          </a:xfrm>
          <a:prstGeom prst="rect">
            <a:avLst/>
          </a:prstGeom>
          <a:ln w="0">
            <a:noFill/>
          </a:ln>
        </p:spPr>
      </p:pic>
      <p:pic>
        <p:nvPicPr>
          <p:cNvPr id="91" name="Picture 5" descr="C:\Users\boo847\Desktop\icon6-keepmoving.jpg"/>
          <p:cNvPicPr/>
          <p:nvPr/>
        </p:nvPicPr>
        <p:blipFill>
          <a:blip r:embed="rId2"/>
          <a:stretch/>
        </p:blipFill>
        <p:spPr>
          <a:xfrm>
            <a:off x="6667560" y="4226040"/>
            <a:ext cx="1933560" cy="22510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hysical Activity in the Classroom</a:t>
            </a:r>
            <a:endParaRPr b="1" lang="en-US" sz="3600" spc="-1" strike="noStrike">
              <a:solidFill>
                <a:srgbClr val="3ea44f"/>
              </a:solidFill>
              <a:latin typeface="Arial"/>
            </a:endParaRPr>
          </a:p>
        </p:txBody>
      </p:sp>
      <p:sp>
        <p:nvSpPr>
          <p:cNvPr id="93" name=""/>
          <p:cNvSpPr txBox="1"/>
          <p:nvPr/>
        </p:nvSpPr>
        <p:spPr>
          <a:xfrm>
            <a:off x="571680" y="177120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al </a:t>
            </a:r>
            <a:r>
              <a:rPr b="1" i="1" lang="en-US" sz="2800" spc="-1" strike="noStrike">
                <a:solidFill>
                  <a:srgbClr val="000000"/>
                </a:solidFill>
                <a:latin typeface="Arial"/>
              </a:rPr>
              <a:t>Eat Well &amp; Keep Moving </a:t>
            </a:r>
            <a:r>
              <a:rPr b="1" lang="en-US" sz="2800" spc="-1" strike="noStrike">
                <a:solidFill>
                  <a:srgbClr val="000000"/>
                </a:solidFill>
                <a:latin typeface="Arial"/>
              </a:rPr>
              <a:t>classroom lessons use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ctivity in the classroom helps students make the connection between healthy eating and active liv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room activity is not meant to replace physical education classes—it is just a supplement to a physical education program.</a:t>
            </a:r>
            <a:endParaRPr b="1"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Safe Workout</a:t>
            </a:r>
            <a:endParaRPr b="1" lang="en-US" sz="3600" spc="-1" strike="noStrike">
              <a:solidFill>
                <a:srgbClr val="3ea44f"/>
              </a:solidFill>
              <a:latin typeface="Arial"/>
            </a:endParaRPr>
          </a:p>
        </p:txBody>
      </p:sp>
      <p:sp>
        <p:nvSpPr>
          <p:cNvPr id="95"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1. Warm-up</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2. Fitness activity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Cool-dow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4. Stretch</a:t>
            </a:r>
            <a:endParaRPr b="1" lang="en-US" sz="2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It’s Your Move: </a:t>
            </a:r>
            <a:br>
              <a:rPr sz="3600"/>
            </a:br>
            <a:r>
              <a:rPr b="1" lang="en-US" sz="3600" spc="-1" strike="noStrike">
                <a:solidFill>
                  <a:srgbClr val="3ea44f"/>
                </a:solidFill>
                <a:latin typeface="Arial"/>
              </a:rPr>
              <a:t>Get Active and Stay Healthy!</a:t>
            </a:r>
            <a:endParaRPr b="1" lang="en-US" sz="3600" spc="-1" strike="noStrike">
              <a:solidFill>
                <a:srgbClr val="3ea44f"/>
              </a:solidFill>
              <a:latin typeface="Arial"/>
            </a:endParaRPr>
          </a:p>
        </p:txBody>
      </p:sp>
      <p:sp>
        <p:nvSpPr>
          <p:cNvPr id="54" name=""/>
          <p:cNvSpPr txBox="1"/>
          <p:nvPr/>
        </p:nvSpPr>
        <p:spPr>
          <a:xfrm>
            <a:off x="571680" y="1875960"/>
            <a:ext cx="8051760" cy="4318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eople can start a moderate-intensity physical activity program without consulting their doctors.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before starting a </a:t>
            </a:r>
            <a:r>
              <a:rPr b="1" i="1" lang="en-US" sz="2400" spc="-1" strike="noStrike">
                <a:solidFill>
                  <a:srgbClr val="000000"/>
                </a:solidFill>
                <a:latin typeface="Arial"/>
              </a:rPr>
              <a:t>vigorous</a:t>
            </a:r>
            <a:r>
              <a:rPr b="1" lang="en-US" sz="2400" spc="-1" strike="noStrike">
                <a:solidFill>
                  <a:srgbClr val="000000"/>
                </a:solidFill>
                <a:latin typeface="Arial"/>
              </a:rPr>
              <a:t> program of physical activity, consult your doctor if</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 healthy woman over 50 or a healthy man over 4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heart disease, diabetes, or other chronic dise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high blood pressure or high blood choleste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 smoker; o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obes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one else, let’s go!</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5" name="Picture 4" descr="C:\Users\boo847\Desktop\icon6-keepmoving.jpg"/>
          <p:cNvPicPr/>
          <p:nvPr/>
        </p:nvPicPr>
        <p:blipFill>
          <a:blip r:embed="rId1"/>
          <a:stretch/>
        </p:blipFill>
        <p:spPr>
          <a:xfrm>
            <a:off x="5784840" y="4492800"/>
            <a:ext cx="1704960" cy="198432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51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nefits of Physical Activity</a:t>
            </a:r>
            <a:br>
              <a:rPr sz="3600"/>
            </a:br>
            <a:r>
              <a:rPr b="1" lang="en-US" sz="3600" spc="-1" strike="noStrike">
                <a:solidFill>
                  <a:srgbClr val="3ea44f"/>
                </a:solidFill>
                <a:latin typeface="Arial"/>
              </a:rPr>
              <a:t>in the Classroom</a:t>
            </a:r>
            <a:endParaRPr b="1" lang="en-US" sz="3600" spc="-1" strike="noStrike">
              <a:solidFill>
                <a:srgbClr val="3ea44f"/>
              </a:solidFill>
              <a:latin typeface="Arial"/>
            </a:endParaRPr>
          </a:p>
        </p:txBody>
      </p:sp>
      <p:sp>
        <p:nvSpPr>
          <p:cNvPr id="97" name=""/>
          <p:cNvSpPr txBox="1"/>
          <p:nvPr/>
        </p:nvSpPr>
        <p:spPr>
          <a:xfrm>
            <a:off x="471600" y="2539800"/>
            <a:ext cx="8051760" cy="37033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vity adds fun and excitement to lesson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ildren love being active.</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ou don’t need to be an athlete to lead students through the workout! </a:t>
            </a:r>
            <a:endParaRPr b="1" lang="en-US" sz="2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6920" y="30276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Setting</a:t>
            </a:r>
            <a:endParaRPr b="1" lang="en-US" sz="3600" spc="-1" strike="noStrike">
              <a:solidFill>
                <a:srgbClr val="3ea44f"/>
              </a:solidFill>
              <a:latin typeface="Arial"/>
            </a:endParaRPr>
          </a:p>
        </p:txBody>
      </p:sp>
      <p:pic>
        <p:nvPicPr>
          <p:cNvPr id="99" name="Picture 1" descr=""/>
          <p:cNvPicPr/>
          <p:nvPr/>
        </p:nvPicPr>
        <p:blipFill>
          <a:blip r:embed="rId1"/>
          <a:stretch/>
        </p:blipFill>
        <p:spPr>
          <a:xfrm>
            <a:off x="706320" y="4073400"/>
            <a:ext cx="3981600" cy="2048040"/>
          </a:xfrm>
          <a:prstGeom prst="rect">
            <a:avLst/>
          </a:prstGeom>
          <a:ln w="0">
            <a:noFill/>
          </a:ln>
        </p:spPr>
      </p:pic>
      <p:pic>
        <p:nvPicPr>
          <p:cNvPr id="100" name="Picture 2" descr=""/>
          <p:cNvPicPr/>
          <p:nvPr/>
        </p:nvPicPr>
        <p:blipFill>
          <a:blip r:embed="rId2"/>
          <a:stretch/>
        </p:blipFill>
        <p:spPr>
          <a:xfrm>
            <a:off x="4687920" y="1919160"/>
            <a:ext cx="3952800" cy="1990800"/>
          </a:xfrm>
          <a:prstGeom prst="rect">
            <a:avLst/>
          </a:prstGeom>
          <a:ln w="0">
            <a:noFill/>
          </a:ln>
        </p:spPr>
      </p:pic>
      <p:pic>
        <p:nvPicPr>
          <p:cNvPr id="101" name="Picture 3" descr=""/>
          <p:cNvPicPr/>
          <p:nvPr/>
        </p:nvPicPr>
        <p:blipFill>
          <a:blip r:embed="rId3"/>
          <a:stretch/>
        </p:blipFill>
        <p:spPr>
          <a:xfrm>
            <a:off x="630360" y="1900080"/>
            <a:ext cx="4057560" cy="2028960"/>
          </a:xfrm>
          <a:prstGeom prst="rect">
            <a:avLst/>
          </a:prstGeom>
          <a:ln w="0">
            <a:noFill/>
          </a:ln>
        </p:spPr>
      </p:pic>
      <p:pic>
        <p:nvPicPr>
          <p:cNvPr id="102" name="Picture 4" descr=""/>
          <p:cNvPicPr/>
          <p:nvPr/>
        </p:nvPicPr>
        <p:blipFill>
          <a:blip r:embed="rId4"/>
          <a:stretch/>
        </p:blipFill>
        <p:spPr>
          <a:xfrm>
            <a:off x="4697280" y="4073400"/>
            <a:ext cx="3943440" cy="201960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ep 1. Warm-Up</a:t>
            </a:r>
            <a:endParaRPr b="1" lang="en-US" sz="3600" spc="-1" strike="noStrike">
              <a:solidFill>
                <a:srgbClr val="3ea44f"/>
              </a:solidFill>
              <a:latin typeface="Arial"/>
            </a:endParaRPr>
          </a:p>
        </p:txBody>
      </p:sp>
      <p:sp>
        <p:nvSpPr>
          <p:cNvPr id="104" name=""/>
          <p:cNvSpPr txBox="1"/>
          <p:nvPr/>
        </p:nvSpPr>
        <p:spPr>
          <a:xfrm>
            <a:off x="571680" y="1684440"/>
            <a:ext cx="8051760" cy="461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prevent injur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body 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s body ready for rest of the workou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series of slow movements for 5 to 10 minutes. It’s best if the slow movements are similar to those that will be done in the fitness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include slow jogging in place, walking, or slow jumping jacks.</a:t>
            </a:r>
            <a:endParaRPr b="1" lang="en-US" sz="2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6519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ep 2. Fitness Activity</a:t>
            </a:r>
            <a:endParaRPr b="1" lang="en-US" sz="3600" spc="-1" strike="noStrike">
              <a:solidFill>
                <a:srgbClr val="3ea44f"/>
              </a:solidFill>
              <a:latin typeface="Arial"/>
            </a:endParaRPr>
          </a:p>
        </p:txBody>
      </p:sp>
      <p:sp>
        <p:nvSpPr>
          <p:cNvPr id="106" name=""/>
          <p:cNvSpPr txBox="1"/>
          <p:nvPr/>
        </p:nvSpPr>
        <p:spPr>
          <a:xfrm>
            <a:off x="571680" y="198072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tness activity has two compon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fitness improves the ability of your muscles to move or resist a workloa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rance fitness improves your cardiorespiratory fitness and your heart, lungs, and blood vessels.</a:t>
            </a:r>
            <a:endParaRPr b="1" lang="en-US" sz="2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17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ep 3. Cool-Down</a:t>
            </a:r>
            <a:endParaRPr b="1" lang="en-US" sz="3600" spc="-1" strike="noStrike">
              <a:solidFill>
                <a:srgbClr val="3ea44f"/>
              </a:solidFill>
              <a:latin typeface="Arial"/>
            </a:endParaRPr>
          </a:p>
        </p:txBody>
      </p:sp>
      <p:sp>
        <p:nvSpPr>
          <p:cNvPr id="108" name=""/>
          <p:cNvSpPr txBox="1"/>
          <p:nvPr/>
        </p:nvSpPr>
        <p:spPr>
          <a:xfrm>
            <a:off x="571680" y="198072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ling down helps your body recover from activity and prevents injur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slow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in place</a:t>
            </a:r>
            <a:r>
              <a:rPr b="1" lang="en-US" sz="2800" spc="-1" strike="noStrike">
                <a:solidFill>
                  <a:srgbClr val="000000"/>
                </a:solidFill>
                <a:latin typeface="Arial"/>
              </a:rPr>
              <a:t> </a:t>
            </a:r>
            <a:r>
              <a:rPr b="0" lang="en-US" sz="2800" spc="-1" strike="noStrike">
                <a:solidFill>
                  <a:srgbClr val="000000"/>
                </a:solidFill>
                <a:latin typeface="Arial"/>
              </a:rPr>
              <a:t>slowly.</a:t>
            </a:r>
            <a:endParaRPr b="1" lang="en-US" sz="2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ep 4. Stretch</a:t>
            </a:r>
            <a:endParaRPr b="1" lang="en-US" sz="3600" spc="-1" strike="noStrike">
              <a:solidFill>
                <a:srgbClr val="3ea44f"/>
              </a:solidFill>
              <a:latin typeface="Arial"/>
            </a:endParaRPr>
          </a:p>
        </p:txBody>
      </p:sp>
      <p:sp>
        <p:nvSpPr>
          <p:cNvPr id="110" name=""/>
          <p:cNvSpPr txBox="1"/>
          <p:nvPr/>
        </p:nvSpPr>
        <p:spPr>
          <a:xfrm>
            <a:off x="571680" y="16495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flexibility, muscles’ ability to work, and body’s ability to mov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injur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stretching rul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o beyond your comfort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stretch for 10 to 15 seconds maxim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ounce; stretch slow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for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37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Neck Stretch</a:t>
            </a:r>
            <a:endParaRPr b="1" lang="en-US" sz="3600" spc="-1" strike="noStrike">
              <a:solidFill>
                <a:srgbClr val="3ea44f"/>
              </a:solidFill>
              <a:latin typeface="Arial"/>
            </a:endParaRPr>
          </a:p>
        </p:txBody>
      </p:sp>
      <p:sp>
        <p:nvSpPr>
          <p:cNvPr id="112" name=""/>
          <p:cNvSpPr txBox="1"/>
          <p:nvPr/>
        </p:nvSpPr>
        <p:spPr>
          <a:xfrm>
            <a:off x="1652400" y="5657760"/>
            <a:ext cx="3819240" cy="411120"/>
          </a:xfrm>
          <a:prstGeom prst="rect">
            <a:avLst/>
          </a:prstGeom>
          <a:noFill/>
          <a:ln w="0">
            <a:noFill/>
          </a:ln>
        </p:spPr>
        <p:txBody>
          <a:bodyPr anchor="t">
            <a:normAutofit/>
          </a:bodyPr>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man Kinetic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3" name="Picture 1" descr=""/>
          <p:cNvPicPr/>
          <p:nvPr/>
        </p:nvPicPr>
        <p:blipFill>
          <a:blip r:embed="rId1"/>
          <a:stretch/>
        </p:blipFill>
        <p:spPr>
          <a:xfrm>
            <a:off x="2662200" y="1200240"/>
            <a:ext cx="3819600" cy="445752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37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alms to Ceiling and The Wave</a:t>
            </a:r>
            <a:endParaRPr b="1" lang="en-US" sz="3600" spc="-1" strike="noStrike">
              <a:solidFill>
                <a:srgbClr val="3ea44f"/>
              </a:solidFill>
              <a:latin typeface="Arial"/>
            </a:endParaRPr>
          </a:p>
        </p:txBody>
      </p:sp>
      <p:sp>
        <p:nvSpPr>
          <p:cNvPr id="115" name="Rectangle 7"/>
          <p:cNvSpPr/>
          <p:nvPr/>
        </p:nvSpPr>
        <p:spPr>
          <a:xfrm rot="16204200">
            <a:off x="473760" y="529092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man Kinetics</a:t>
            </a:r>
            <a:endParaRPr b="0" lang="en-US" sz="1800" spc="-1" strike="noStrike">
              <a:solidFill>
                <a:srgbClr val="000000"/>
              </a:solidFill>
              <a:latin typeface="Times New Roman"/>
            </a:endParaRPr>
          </a:p>
        </p:txBody>
      </p:sp>
      <p:pic>
        <p:nvPicPr>
          <p:cNvPr id="116" name="Picture 1" descr=""/>
          <p:cNvPicPr/>
          <p:nvPr/>
        </p:nvPicPr>
        <p:blipFill>
          <a:blip r:embed="rId1"/>
          <a:stretch/>
        </p:blipFill>
        <p:spPr>
          <a:xfrm>
            <a:off x="1687680" y="1203480"/>
            <a:ext cx="2197080" cy="5289480"/>
          </a:xfrm>
          <a:prstGeom prst="rect">
            <a:avLst/>
          </a:prstGeom>
          <a:ln w="0">
            <a:noFill/>
          </a:ln>
        </p:spPr>
      </p:pic>
      <p:pic>
        <p:nvPicPr>
          <p:cNvPr id="117" name="Picture 2" descr=""/>
          <p:cNvPicPr/>
          <p:nvPr/>
        </p:nvPicPr>
        <p:blipFill>
          <a:blip r:embed="rId2"/>
          <a:stretch/>
        </p:blipFill>
        <p:spPr>
          <a:xfrm>
            <a:off x="4721400" y="1203480"/>
            <a:ext cx="2796840" cy="5289480"/>
          </a:xfrm>
          <a:prstGeom prst="rect">
            <a:avLst/>
          </a:prstGeom>
          <a:ln w="0">
            <a:noFill/>
          </a:ln>
        </p:spPr>
      </p:pic>
      <p:sp>
        <p:nvSpPr>
          <p:cNvPr id="118" name="Rectangle 7"/>
          <p:cNvSpPr/>
          <p:nvPr/>
        </p:nvSpPr>
        <p:spPr>
          <a:xfrm rot="16204200">
            <a:off x="6698520" y="529092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man Kinetics</a:t>
            </a:r>
            <a:endParaRPr b="0" lang="en-US" sz="18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et Active and Reduce Inactivity</a:t>
            </a:r>
            <a:endParaRPr b="1" lang="en-US" sz="3600" spc="-1" strike="noStrike">
              <a:solidFill>
                <a:srgbClr val="3ea44f"/>
              </a:solidFill>
              <a:latin typeface="Arial"/>
            </a:endParaRPr>
          </a:p>
        </p:txBody>
      </p:sp>
      <p:sp>
        <p:nvSpPr>
          <p:cNvPr id="57" name=""/>
          <p:cNvSpPr txBox="1"/>
          <p:nvPr/>
        </p:nvSpPr>
        <p:spPr>
          <a:xfrm>
            <a:off x="571680" y="1878120"/>
            <a:ext cx="8051760" cy="431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mote health, psychological well-being, and a healthy body weigh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 in regular physical activity, and </a:t>
            </a:r>
            <a:br>
              <a:rPr sz="2800"/>
            </a:b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sedentary activities.</a:t>
            </a:r>
            <a:endParaRPr b="1"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hysical Activity </a:t>
            </a:r>
            <a:br>
              <a:rPr sz="3600"/>
            </a:br>
            <a:r>
              <a:rPr b="1" lang="en-US" sz="3600" spc="-1" strike="noStrike">
                <a:solidFill>
                  <a:srgbClr val="3ea44f"/>
                </a:solidFill>
                <a:latin typeface="Arial"/>
              </a:rPr>
              <a:t>Recommendations for Adults</a:t>
            </a:r>
            <a:endParaRPr b="1" lang="en-US" sz="3600" spc="-1" strike="noStrike">
              <a:solidFill>
                <a:srgbClr val="3ea44f"/>
              </a:solidFill>
              <a:latin typeface="Arial"/>
            </a:endParaRPr>
          </a:p>
        </p:txBody>
      </p:sp>
      <p:sp>
        <p:nvSpPr>
          <p:cNvPr id="59"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physically active for at least 30 minutes on all or most days of the week; engage in moderate-intensity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greater health benefits and to control body weight, increase the intensity or the duration of your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event weight gain, about 60 minutes per day of physical activity may be needed.</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ctivity Can Be Accumulated Throughout the Day</a:t>
            </a:r>
            <a:endParaRPr b="1" lang="en-US" sz="3600" spc="-1" strike="noStrike">
              <a:solidFill>
                <a:srgbClr val="3ea44f"/>
              </a:solidFill>
              <a:latin typeface="Arial"/>
            </a:endParaRPr>
          </a:p>
        </p:txBody>
      </p:sp>
      <p:sp>
        <p:nvSpPr>
          <p:cNvPr id="6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otal amount is what count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be active for a steady 30 to 60 minutes.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accumulate activity in 3 to 6 short (10-minute) bouts throughout the day.</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599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Young People Need</a:t>
            </a:r>
            <a:br>
              <a:rPr sz="3600"/>
            </a:br>
            <a:r>
              <a:rPr b="1" lang="en-US" sz="3600" spc="-1" strike="noStrike">
                <a:solidFill>
                  <a:srgbClr val="3ea44f"/>
                </a:solidFill>
                <a:latin typeface="Arial"/>
              </a:rPr>
              <a:t>Even More Activity!</a:t>
            </a:r>
            <a:endParaRPr b="1" lang="en-US" sz="3600" spc="-1" strike="noStrike">
              <a:solidFill>
                <a:srgbClr val="3ea44f"/>
              </a:solidFill>
              <a:latin typeface="Arial"/>
            </a:endParaRPr>
          </a:p>
        </p:txBody>
      </p:sp>
      <p:sp>
        <p:nvSpPr>
          <p:cNvPr id="63" name=""/>
          <p:cNvSpPr txBox="1"/>
          <p:nvPr/>
        </p:nvSpPr>
        <p:spPr>
          <a:xfrm>
            <a:off x="571680" y="1980720"/>
            <a:ext cx="805176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and teenagers should get at least 60 minutes of physical activity every day, which can be broken up into multiple sessions throughout the day.</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an include active free play, as well as structured activities that are age-appropriate, enjoyable, and offer variety. Any episode of moderate- or vigorous-intensity physical activity, however brief, counts toward the daily goal.</a:t>
            </a:r>
            <a:endParaRPr b="1" lang="en-US" sz="2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726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Moderate Physical Activity?</a:t>
            </a:r>
            <a:endParaRPr b="1" lang="en-US" sz="3600" spc="-1" strike="noStrike">
              <a:solidFill>
                <a:srgbClr val="3ea44f"/>
              </a:solidFill>
              <a:latin typeface="Arial"/>
            </a:endParaRPr>
          </a:p>
        </p:txBody>
      </p:sp>
      <p:sp>
        <p:nvSpPr>
          <p:cNvPr id="65" name=""/>
          <p:cNvSpPr txBox="1"/>
          <p:nvPr/>
        </p:nvSpPr>
        <p:spPr>
          <a:xfrm>
            <a:off x="514440" y="1771200"/>
            <a:ext cx="8051760" cy="4761000"/>
          </a:xfrm>
          <a:prstGeom prst="rect">
            <a:avLst/>
          </a:prstGeom>
          <a:noFill/>
          <a:ln w="0">
            <a:noFill/>
          </a:ln>
        </p:spPr>
        <p:txBody>
          <a:bodyPr anchor="t">
            <a:normAutofit/>
          </a:bodyPr>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king</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 gardening or yard work</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cing (including video games that require players to dance, such as Dance, Dance Revolution)</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f (walking and carrying clubs)</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cycling (&lt;10 miles per hour, or 16 kilometers per hour)</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ing (3.5 miles per hour, or 5.6 kilometers per hour)</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lifting (general light workout)</a:t>
            </a:r>
            <a:endParaRPr b="1" lang="en-US" sz="2400" spc="-1" strike="noStrike">
              <a:solidFill>
                <a:srgbClr val="000000"/>
              </a:solidFill>
              <a:latin typeface="Arial"/>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tching</a:t>
            </a:r>
            <a:endParaRPr b="1" lang="en-US" sz="2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Vigorous Physical Activity?</a:t>
            </a:r>
            <a:endParaRPr b="1" lang="en-US" sz="3600" spc="-1" strike="noStrike">
              <a:solidFill>
                <a:srgbClr val="3ea44f"/>
              </a:solidFill>
              <a:latin typeface="Arial"/>
            </a:endParaRPr>
          </a:p>
        </p:txBody>
      </p:sp>
      <p:sp>
        <p:nvSpPr>
          <p:cNvPr id="67" name=""/>
          <p:cNvSpPr txBox="1"/>
          <p:nvPr/>
        </p:nvSpPr>
        <p:spPr>
          <a:xfrm>
            <a:off x="571680" y="1523520"/>
            <a:ext cx="8051760" cy="4932360"/>
          </a:xfrm>
          <a:prstGeom prst="rect">
            <a:avLst/>
          </a:prstGeom>
          <a:noFill/>
          <a:ln w="0">
            <a:noFill/>
          </a:ln>
        </p:spPr>
        <p:txBody>
          <a:bodyPr anchor="t">
            <a:normAutofit/>
          </a:bodyPr>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ning or jogging (5 miles per hour, or 8 kilometers per hour)</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cycling (&gt;10 miles per hour, or 16 kilometers per hour)</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mming (slow freestyle laps)</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robics</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ing (4.5 miles per hour, or 7 kilometers per hour)</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vy yard work (chopping wood)</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lifting (vigorous effort)</a:t>
            </a:r>
            <a:endParaRPr b="1"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ketball (vigorous)</a:t>
            </a:r>
            <a:endParaRPr b="1"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ips to Avoid Injury</a:t>
            </a:r>
            <a:endParaRPr b="1" lang="en-US" sz="3600" spc="-1" strike="noStrike">
              <a:solidFill>
                <a:srgbClr val="3ea44f"/>
              </a:solidFill>
              <a:latin typeface="Arial"/>
            </a:endParaRPr>
          </a:p>
        </p:txBody>
      </p:sp>
      <p:sp>
        <p:nvSpPr>
          <p:cNvPr id="69"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 up and cool dow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 appropriate shoes and cloth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w down or stop if you feel pain, fatigue, or shortness of breath.</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5T16:12:39Z</cp:lastPrinted>
  <dcterms:modified xsi:type="dcterms:W3CDTF">2015-11-19T17:04:05Z</dcterms:modified>
  <cp:revision>101</cp:revision>
  <dc:subject/>
  <dc:title>chapter ??</dc:title>
</cp:coreProperties>
</file>