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lick to move the slide</a:t>
            </a:r>
            <a:endParaRPr b="1" lang="en-US" sz="3600" spc="-1" strike="noStrike">
              <a:solidFill>
                <a:srgbClr val="3ea44f"/>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465CF-459A-4F40-89E8-F9FEA38CD1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55FD4AE-7C73-476D-982B-94A2393C68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back from your break. This session is on wellness and will offer you a chance to explore the many aspects of your home and work lives that contribute to your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o the presenter: Comments in parentheses are instructions you should follow while giving the presentation. Do not read these comments to participants. This convention will be followed throughout the notes in this slide show.)</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AA26B-95E8-4F2F-9691-AAA734C534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hear the report from the Body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e the points on this slide to review and enhance the report of th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 primarily relates to physical wellness, which involves nutrition, exercise, personal hygiene (being clean and groomed for work), and medical self-care (preventive health care and treatment for illnesses). Here are examples of activities addressing this area. </a:t>
            </a:r>
            <a:r>
              <a:rPr b="0" i="1" lang="en-US" sz="1200" spc="-1" strike="noStrike">
                <a:solidFill>
                  <a:srgbClr val="000000"/>
                </a:solidFill>
                <a:latin typeface="Times New Roman"/>
              </a:rPr>
              <a:t>(Read slid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A6981-203F-429F-B83B-56BFEF1A0D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dful eating is the mindfulness practice for when we are preparing and eating our food. Mindful eating is not a diet; rather, it is an increased awareness of our relationship with the foods and drinks we consume, and how they affect our body, our feelings, and our though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dful eating helps us to be alert as to how external cues and our surroundings shape our consumption and lifestyle behaviors. When we eat mindfully, we focus not only on </a:t>
            </a:r>
            <a:r>
              <a:rPr b="0" i="1" lang="en-US" sz="1200" spc="-1" strike="noStrike">
                <a:solidFill>
                  <a:srgbClr val="000000"/>
                </a:solidFill>
                <a:latin typeface="Times New Roman"/>
              </a:rPr>
              <a:t>what we eat</a:t>
            </a:r>
            <a:r>
              <a:rPr b="0" lang="en-US" sz="1200" spc="-1" strike="noStrike">
                <a:solidFill>
                  <a:srgbClr val="000000"/>
                </a:solidFill>
                <a:latin typeface="Times New Roman"/>
              </a:rPr>
              <a:t>, but also </a:t>
            </a:r>
            <a:r>
              <a:rPr b="0" i="1" lang="en-US" sz="1200" spc="-1" strike="noStrike">
                <a:solidFill>
                  <a:srgbClr val="000000"/>
                </a:solidFill>
                <a:latin typeface="Times New Roman"/>
              </a:rPr>
              <a:t>why we eat</a:t>
            </a:r>
            <a:r>
              <a:rPr b="0" lang="en-US" sz="1200" spc="-1" strike="noStrike">
                <a:solidFill>
                  <a:srgbClr val="000000"/>
                </a:solidFill>
                <a:latin typeface="Times New Roman"/>
              </a:rPr>
              <a:t>, </a:t>
            </a:r>
            <a:r>
              <a:rPr b="0" i="1" lang="en-US" sz="1200" spc="-1" strike="noStrike">
                <a:solidFill>
                  <a:srgbClr val="000000"/>
                </a:solidFill>
                <a:latin typeface="Times New Roman"/>
              </a:rPr>
              <a:t>how we eat</a:t>
            </a:r>
            <a:r>
              <a:rPr b="0" lang="en-US" sz="1200" spc="-1" strike="noStrike">
                <a:solidFill>
                  <a:srgbClr val="000000"/>
                </a:solidFill>
                <a:latin typeface="Times New Roman"/>
              </a:rPr>
              <a:t>, and gain a greater understanding of </a:t>
            </a:r>
            <a:r>
              <a:rPr b="0" i="1" lang="en-US" sz="1200" spc="-1" strike="noStrike">
                <a:solidFill>
                  <a:srgbClr val="000000"/>
                </a:solidFill>
                <a:latin typeface="Times New Roman"/>
              </a:rPr>
              <a:t>why we eat what we eat</a:t>
            </a:r>
            <a:r>
              <a:rPr b="0" lang="en-US" sz="1200" spc="-1" strike="noStrike">
                <a:solidFill>
                  <a:srgbClr val="000000"/>
                </a:solidFill>
                <a:latin typeface="Times New Roman"/>
              </a:rPr>
              <a:t>. We also cultivate awareness of what reinforces our unhealthy habits, as well as what deters us from, or motivates us in maintaining, a healthy life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Handout and discuss, if desired, the 7 Practices of a Mindful Eater from the Additional Resources folder on this Web Resource for more information on mindful 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h &amp; Cheung. (2010). </a:t>
            </a:r>
            <a:r>
              <a:rPr b="0" i="1" lang="en-US" sz="1200" spc="-1" strike="noStrike">
                <a:solidFill>
                  <a:srgbClr val="000000"/>
                </a:solidFill>
                <a:latin typeface="Times New Roman"/>
              </a:rPr>
              <a:t>Savor: Mindful Eating, Mindful Life</a:t>
            </a:r>
            <a:r>
              <a:rPr b="0" lang="en-US" sz="1200" spc="-1" strike="noStrike">
                <a:solidFill>
                  <a:srgbClr val="000000"/>
                </a:solidFill>
                <a:latin typeface="Times New Roman"/>
              </a:rPr>
              <a:t>. HarperOn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9A395-2265-4C6C-AF0A-8085CFF92A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let’s hear the report from the Spirit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e the points on this slide to review and enhance the reports of th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rit touches on a sensitive and sometimes controversial topic: an individual's inner peace and well-being. Wellness is based on individual choice. Spirituality is extremely individualistic and is not necessarily a function of organized religion. In addition to giving people a sense of community and tradition, spirituality, when combined with the other components of positive health promotion, may help people find strength and comfort to deal with an illness. It also may keep stress levels low, which helps people stay healthier. Here are some examples of activities addressing this area. </a:t>
            </a:r>
            <a:r>
              <a:rPr b="0" i="1" lang="en-US" sz="1200" spc="-1" strike="noStrike">
                <a:solidFill>
                  <a:srgbClr val="000000"/>
                </a:solidFill>
                <a:latin typeface="Times New Roman"/>
              </a:rPr>
              <a:t>(Read slid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1B124-3DEE-4A65-B5C6-B486FFCE97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ose the two questions on the slide to the group for discu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wellness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ossible answers include to raise consciousness about the many aspects of health; to enhance personal well-being through a whole-person perspective that includes body, mind, and spirit; and to identify personal health risk factors in a variety of life dimen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ould you rate the overall health of the students in this school? Wh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526B5-8453-4580-AE6E-437A983B67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stribute a Can You Ring the Wellness Bell? handout from the Additional Resources folder on this Web Resource to each participant, and go over the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here’s a chance for each of us to think about our own well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olor in the wellness bell for each of the three aspects of wellness to indicate what level of wellness you have achieved today.</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questions 1 and 2—“Things I do that help me reach 100% wellness” and “Things I do that keep me from reaching 100% wellness”—list 3 to 5 answers. </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question 3—“What else would help me reach 100% wellness”—think of external programs, opportunities, supports, and so on that might help you reach closer to 100% wellness. These may include ways that this school or the school district administration could help you achieve well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ive participants a few minutes to complete the form. Then ask the group to form pairs and share some of their answers from each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convene the group and ask for volunteers to share 1 or 2 of their answers to questions 1 and 2. Next ask for their answers to question 3 and write these on the flip chart. Highlight those suggestions that might occur in the school setting and briefly discuss what would need to happen to see them realized. Be aware that some things people have written on their sheets may be too sensitive to share with the group.)</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1EC1E-242D-455F-92AE-EFB01B82F8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mmarize the discussion by going over this diagram illustrating the total person concept of well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ll five dimensions of wellness—social, spiritual, emotional, physical, and intellectual—are equally important to the total well-being of the individua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49BA8-C748-4FD6-B3D9-C9244BBE5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ress management is a key aspect of wellness, and one stress management technique involves eliciting the relaxation response, a physical state in which heart rate, blood pressure, and muscle tension decrease. Focusing on a repeated word or phrase or on the breath while disregarding everyday thoughts that come to mind can elicit the relaxation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t's go through a brief exercise to demonstrate how to elicit the relaxation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Adapted from the Benson-Henry Institute for Mind Body Medicine at Massachusetts General Hospital www.mbmi.org/basics/whatis_rresponse_elicitation.asp.</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21C8F-3473-46AC-A25A-7142ED92D4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Instructions on how to elicit the relaxation response follow:)</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1. Ask participants to pick a focus word, short phrase, or prayer that is firmly rooted in their belief systems, such as </a:t>
            </a:r>
            <a:r>
              <a:rPr b="0" lang="en-US" sz="1200" spc="-1" strike="noStrike">
                <a:solidFill>
                  <a:srgbClr val="000000"/>
                </a:solidFill>
                <a:latin typeface="Times New Roman"/>
                <a:ea typeface="Times New Roman"/>
              </a:rPr>
              <a:t>one </a:t>
            </a:r>
            <a:r>
              <a:rPr b="0" i="1" lang="en-US" sz="1200" spc="-1" strike="noStrike">
                <a:solidFill>
                  <a:srgbClr val="000000"/>
                </a:solidFill>
                <a:latin typeface="Times New Roman"/>
                <a:ea typeface="Times New Roman"/>
              </a:rPr>
              <a:t>or </a:t>
            </a:r>
            <a:r>
              <a:rPr b="0" lang="en-US" sz="1200" spc="-1" strike="noStrike">
                <a:solidFill>
                  <a:srgbClr val="000000"/>
                </a:solidFill>
                <a:latin typeface="Times New Roman"/>
                <a:ea typeface="Times New Roman"/>
              </a:rPr>
              <a:t>peace</a:t>
            </a:r>
            <a:r>
              <a:rPr b="0" i="1" lang="en-US" sz="1200" spc="-1" strike="noStrike">
                <a:solidFill>
                  <a:srgbClr val="000000"/>
                </a:solidFill>
                <a:latin typeface="Times New Roman"/>
                <a:ea typeface="Times New Roman"/>
              </a:rPr>
              <a:t> or any other word or phrase. If participants prefer, they may choose to focus on the sensation of their breath as it enters and leaves their nostril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2.</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sk participants to sit quietly in a comfortable position and to close their ey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3. Guide participants to relax their muscles, progressing from their feet to their calves, thighs, abdomen, shoulders, head, and neck. Say the follow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art by relaxing your feet. Feel their connection to the floor. . . . Now relax your calves, releasing any tension, and relax your knees and thighs. . . . Feel the weight of your body sinking into the chair. . . . Take a deep breath, and when you exhale, relax the muscles of your belly. . . . Relax your shoulders, releasing all the tension that they hold. . . . Relax your neck. . . . Feel the muscles of your face and your scalp relax . . . even relax your ea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4. Instruct participants to focus on their chosen word or phrase, as follow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reathe slowly and naturally and say your focus word, sound, phrase, or prayer silently to yourself as you exhale. </a:t>
            </a:r>
            <a:r>
              <a:rPr b="0" i="1" lang="en-US" sz="1200" spc="-1" strike="noStrike">
                <a:solidFill>
                  <a:srgbClr val="000000"/>
                </a:solidFill>
                <a:latin typeface="Times New Roman"/>
                <a:ea typeface="Times New Roman"/>
              </a:rPr>
              <a:t>(Alternatively, participants may focus on the sensation of their breath as it passes through their nostrils. Say the follow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ice how the breath feels during each inhale; notice how it feels during each exhal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dvise participants to assume a passive attitud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on’t worry about how well you’re doing. When other thoughts come to mind, simply say to yourself, “Oh well,” and gently return to repeating your phrase silently to yourself.</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6. Let participants continue to elicit the relaxation response for 3 to 5 minutes. If desired, you may give additional prompts to focus and to assume a passive attitud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7. Ask participants to slowly bring their attention back to the room. Then ask them to open their eyes and sit for another minute before speak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8.</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sk participants to share their observations on eliciting the relaxation response. Tell them that to reduce stress, it is helpful to practice this technique daily for 10 to 20 minutes. Good times to do so are before breakfast and before dinn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Adapted from the Benson-Henry Institute for Mind Body Medicine at Massachusetts General Hospital. Available: www.mbmi.org.basics/whatis_rresponse_elicitation.asp.</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B853E-3A56-4F28-BC29-8C83B9B7F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and out a copy of the Lifestyle Change Card from the Additional Resources</a:t>
            </a:r>
            <a:r>
              <a:rPr b="1" lang="en-US" sz="1200" spc="-1" strike="noStrike">
                <a:solidFill>
                  <a:srgbClr val="000000"/>
                </a:solidFill>
                <a:latin typeface="Times New Roman"/>
              </a:rPr>
              <a:t> </a:t>
            </a:r>
            <a:r>
              <a:rPr b="0" i="1" lang="en-US" sz="1200" spc="-1" strike="noStrike">
                <a:solidFill>
                  <a:srgbClr val="000000"/>
                </a:solidFill>
                <a:latin typeface="Times New Roman"/>
              </a:rPr>
              <a:t>folder on the Web Resource to each particip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your opportunity to write your own declaration of wellness. For each part of wellness (mind, body, spirit), you should write one thing that you pledge to do differ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then take the card home and keep it in a place where you will frequently see it, such as on the refrigerator, on the bathroom mirror, in a wallet, or in a pocketbook.</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90007-3F25-4BD4-BBB6-57F6E4C0A3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session will address the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Principles of Healthy Living and how they relate to your health and the health of your students. Let’s take a 5- to 10-minute break. </a:t>
            </a:r>
            <a:r>
              <a:rPr b="0" i="1" lang="en-US" sz="1200" spc="-1" strike="noStrike">
                <a:solidFill>
                  <a:srgbClr val="000000"/>
                </a:solidFill>
                <a:latin typeface="Times New Roman"/>
              </a:rPr>
              <a:t>(The Principles of Healthy Living can be found in the Additional Resources folder on this Web Resour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2289F-D6ED-4F9E-997C-39FEE0B03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rt by going over the age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go over the agenda items. Participant handouts should include a copy of this presentation, obtained by printing the PDF version of these slides in the Training 2 folder on this Web Resour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EF07E-61F1-4DE9-BBB2-12E160C451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well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is a choice of lifestyle marked by a balance of mind, body, and spir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a balanced diet is important to health, so is a balance of the body, or physical wellness; the mind, or the emotional and intellectual wellness;  and the spirit, or social and spiritual well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lk about each of these aspects of wellne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1C679-FEAB-46F8-B564-FFD9272016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wellness refers to those aspects of health related directly to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wellness means you can get through the day with enough energy for work and play. It is the aspect of wellness that often first comes to mind when people think of wellness. But as you will see, all aspects of wellness are important to our health. In fact, the World Health Organization defines health as “a state of complete physical, mental and social well-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ld Health Organization. (1948). WHO Definition of Health. Retrieved on January 15, 2015, from http://www.who.int/about/definition/en/print.htm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87C4F-BC7E-4033-8C17-603F4941D8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otional wellness involves a sense of self-worth and an acceptance for things that are different. Emotional wellness means you are open to learning new things and accepting new ideas. This openness helps you cope with stressful situations and accept them as part of life. You are able to appropriately control and express your emo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 wellness involves your ability to learn and to use the knowledge you acquire. Intellectual wellness means you are open to experiences that will broaden your knowledge bas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08769-9BA0-4F10-A0AC-8ADDD13894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wellness involves interacting with people and the environment and having satisfying relationships. Social wellness means you have friends with whom you discuss your problems and with whom you spend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ritual wellness means you are working to achieve spiritual potential and to find harmony in living.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3AEE7-BB91-4D8D-9B5C-8EB005FD08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it take to achieve each type of wellness? Let's split into groups for a brainstorming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plit participants into three groups and give each group a sheet of newsprint paper with one of the following headings: Mind, Body, or Spirit. Ask the groups to brainstorm characteristics of their type of wellness and activities that can enhance their component; perhaps offer an incentive or a prize, such as pens, T-shirts, or other gifts, for each id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begin our brainstorming activity, notice that in this diagram, the three aspects of wellness overlap. We will find that many characteristics of wellness fall into more than one categor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50ABC-714D-4F22-B53A-8FC40DAA12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convene the large group and have each small group report on its brainstorming session. Write the small groups’ responses on a flip chart. You may want to use a symbol of three overlapping circles to represent the three areas of wellness, since there are usually some characteristics that come up in more than one area—e.g., meditation is both spiritual and emotional, exercise is both physical and emotional, mindfulness can apply to all three areas of well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hear the report from the Mind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e the points on this slide to review and enhance the report of th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d focuses on mental wellness, which involves stress management, team building, support groups formed around a central theme, communication classes, and nurturing the intellect. Here are some examples of activities addressing this area. </a:t>
            </a:r>
            <a:r>
              <a:rPr b="0" i="1" lang="en-US" sz="1200" spc="-1" strike="noStrike">
                <a:solidFill>
                  <a:srgbClr val="000000"/>
                </a:solidFill>
                <a:latin typeface="Times New Roman"/>
              </a:rPr>
              <a:t>(Read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32E2E-D139-43EC-B99E-B05327A96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have practiced or heard about the concept of mindfulness. To put it simply, mindfulness is the practice of being fully present in each moment, rather than letting our mind and body go on autopilot. Think of it like mono-tasking, or doing only one thing at a time. For example, instead of thinking about your to-do list while brushing your teeth, concentrate on only brushing your teeth. When listening to a good friend tell you about their day, just lis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dfulness can be applied to any area of our daily life, contributing to our total wellness by living more fully from moment to mo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6" name="PlaceHolder 2"/>
          <p:cNvSpPr>
            <a:spLocks noGrp="1"/>
          </p:cNvSpPr>
          <p:nvPr>
            <p:ph/>
          </p:nvPr>
        </p:nvSpPr>
        <p:spPr>
          <a:xfrm>
            <a:off x="571680" y="198072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571680" y="423648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9"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57168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69764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34" name="PlaceHolder 2"/>
          <p:cNvSpPr>
            <a:spLocks noGrp="1"/>
          </p:cNvSpPr>
          <p:nvPr>
            <p:ph/>
          </p:nvPr>
        </p:nvSpPr>
        <p:spPr>
          <a:xfrm>
            <a:off x="57168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329400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01632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57168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329400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601632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5" name="PlaceHolder 2"/>
          <p:cNvSpPr>
            <a:spLocks noGrp="1"/>
          </p:cNvSpPr>
          <p:nvPr>
            <p:ph type="subTitle"/>
          </p:nvPr>
        </p:nvSpPr>
        <p:spPr>
          <a:xfrm>
            <a:off x="571680" y="1980720"/>
            <a:ext cx="8051760" cy="431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7" name="PlaceHolder 2"/>
          <p:cNvSpPr>
            <a:spLocks noGrp="1"/>
          </p:cNvSpPr>
          <p:nvPr>
            <p:ph/>
          </p:nvPr>
        </p:nvSpPr>
        <p:spPr>
          <a:xfrm>
            <a:off x="571680" y="1980720"/>
            <a:ext cx="805176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9" name="PlaceHolder 2"/>
          <p:cNvSpPr>
            <a:spLocks noGrp="1"/>
          </p:cNvSpPr>
          <p:nvPr>
            <p:ph/>
          </p:nvPr>
        </p:nvSpPr>
        <p:spPr>
          <a:xfrm>
            <a:off x="57168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69764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495000"/>
            <a:ext cx="85341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14"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9764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57168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18" name="PlaceHolder 2"/>
          <p:cNvSpPr>
            <a:spLocks noGrp="1"/>
          </p:cNvSpPr>
          <p:nvPr>
            <p:ph/>
          </p:nvPr>
        </p:nvSpPr>
        <p:spPr>
          <a:xfrm>
            <a:off x="57168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69764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2"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571680" y="423648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0"/>
            <a:ext cx="9144000" cy="6858000"/>
          </a:xfrm>
          <a:prstGeom prst="rect">
            <a:avLst/>
          </a:prstGeom>
          <a:solidFill>
            <a:srgbClr val="fbad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9"/>
          <p:cNvSpPr/>
          <p:nvPr/>
        </p:nvSpPr>
        <p:spPr>
          <a:xfrm>
            <a:off x="87480" y="87480"/>
            <a:ext cx="8969040" cy="669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lick to edit the title text format</a:t>
            </a:r>
            <a:endParaRPr b="1" lang="en-US" sz="3600" spc="-1" strike="noStrike">
              <a:solidFill>
                <a:srgbClr val="3ea44f"/>
              </a:solidFill>
              <a:latin typeface="Arial"/>
            </a:endParaRPr>
          </a:p>
        </p:txBody>
      </p:sp>
      <p:sp>
        <p:nvSpPr>
          <p:cNvPr id="3" name="PlaceHolder 2"/>
          <p:cNvSpPr>
            <a:spLocks noGrp="1"/>
          </p:cNvSpPr>
          <p:nvPr>
            <p:ph type="body"/>
          </p:nvPr>
        </p:nvSpPr>
        <p:spPr>
          <a:xfrm>
            <a:off x="571680" y="1980720"/>
            <a:ext cx="8051760" cy="4318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Flowchart: Process 6"/>
          <p:cNvSpPr/>
          <p:nvPr/>
        </p:nvSpPr>
        <p:spPr>
          <a:xfrm>
            <a:off x="0" y="0"/>
            <a:ext cx="9144000" cy="6858000"/>
          </a:xfrm>
          <a:prstGeom prst="flowChartProcess">
            <a:avLst/>
          </a:prstGeom>
          <a:solidFill>
            <a:srgbClr val="fbef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7"/>
          <p:cNvSpPr/>
          <p:nvPr/>
        </p:nvSpPr>
        <p:spPr>
          <a:xfrm>
            <a:off x="297000" y="2716200"/>
            <a:ext cx="8550000" cy="24606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ea44f"/>
                </a:solidFill>
                <a:latin typeface="Arial"/>
              </a:rPr>
              <a:t>The Good Life— </a:t>
            </a:r>
            <a:endParaRPr b="0" lang="en-US" sz="7200" spc="-1" strike="noStrike">
              <a:solidFill>
                <a:srgbClr val="000000"/>
              </a:solidFill>
              <a:latin typeface="Times New Roman"/>
            </a:endParaRPr>
          </a:p>
          <a:p>
            <a:pPr marL="343080" indent="-343080" algn="ctr">
              <a:lnSpc>
                <a:spcPct val="8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ea44f"/>
                </a:solidFill>
                <a:latin typeface="Arial"/>
              </a:rPr>
              <a:t>Wellness</a:t>
            </a:r>
            <a:endParaRPr b="0" lang="en-US" sz="7200" spc="-1" strike="noStrike">
              <a:solidFill>
                <a:srgbClr val="000000"/>
              </a:solidFill>
              <a:latin typeface="Times New Roman"/>
            </a:endParaRPr>
          </a:p>
        </p:txBody>
      </p:sp>
      <p:sp>
        <p:nvSpPr>
          <p:cNvPr id="49" name="Right Triangle 2"/>
          <p:cNvSpPr/>
          <p:nvPr/>
        </p:nvSpPr>
        <p:spPr>
          <a:xfrm rot="5400000">
            <a:off x="52920" y="-53280"/>
            <a:ext cx="3313080" cy="3419640"/>
          </a:xfrm>
          <a:prstGeom prst="rtTriangle">
            <a:avLst/>
          </a:prstGeom>
          <a:solidFill>
            <a:srgbClr val="fbad2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0"/>
          <p:cNvSpPr/>
          <p:nvPr/>
        </p:nvSpPr>
        <p:spPr>
          <a:xfrm>
            <a:off x="304920" y="542880"/>
            <a:ext cx="1771560" cy="1143000"/>
          </a:xfrm>
          <a:prstGeom prst="rect">
            <a:avLst/>
          </a:prstGeom>
          <a:no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efb3"/>
                </a:solidFill>
                <a:latin typeface="Arial"/>
              </a:rPr>
              <a:t>Session</a:t>
            </a:r>
            <a:r>
              <a:rPr b="1" lang="en-US" sz="6800" spc="-1" strike="noStrike">
                <a:solidFill>
                  <a:srgbClr val="fbefb3"/>
                </a:solidFill>
                <a:latin typeface="Arial"/>
              </a:rPr>
              <a:t>2</a:t>
            </a:r>
            <a:endParaRPr b="0" lang="en-US" sz="6800" spc="-1" strike="noStrike">
              <a:solidFill>
                <a:srgbClr val="000000"/>
              </a:solidFill>
              <a:latin typeface="Times New Roman"/>
            </a:endParaRPr>
          </a:p>
        </p:txBody>
      </p:sp>
      <p:sp>
        <p:nvSpPr>
          <p:cNvPr id="51" name="Rectangle 4"/>
          <p:cNvSpPr/>
          <p:nvPr/>
        </p:nvSpPr>
        <p:spPr>
          <a:xfrm>
            <a:off x="0" y="5673600"/>
            <a:ext cx="91440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e9c14"/>
                </a:solidFill>
                <a:latin typeface="Arial"/>
                <a:ea typeface="Sakkal Majalla"/>
              </a:rPr>
              <a:t>Eat Well &amp; Keep Moving</a:t>
            </a:r>
            <a:endParaRPr b="0" lang="en-US" sz="2400" spc="-1" strike="noStrike">
              <a:solidFill>
                <a:srgbClr val="000000"/>
              </a:solidFill>
              <a:latin typeface="Times New Roman"/>
            </a:endParaRPr>
          </a:p>
        </p:txBody>
      </p:sp>
      <p:sp>
        <p:nvSpPr>
          <p:cNvPr id="52" name="TextBox 7"/>
          <p:cNvSpPr/>
          <p:nvPr/>
        </p:nvSpPr>
        <p:spPr>
          <a:xfrm>
            <a:off x="0" y="629604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L.W.Y Cheung, H. Dart, S. Kalin, B. Otis, and S.L. Gortmaker, 2016, </a:t>
            </a:r>
            <a:r>
              <a:rPr b="0" i="1" lang="en-US" sz="1000" spc="-1" strike="noStrike">
                <a:solidFill>
                  <a:srgbClr val="000000"/>
                </a:solidFill>
                <a:latin typeface="Arial"/>
              </a:rPr>
              <a:t>Eat Well &amp; Keep Moving</a:t>
            </a:r>
            <a:r>
              <a:rPr b="0" lang="en-US" sz="1000" spc="-1" strike="noStrike">
                <a:solidFill>
                  <a:srgbClr val="000000"/>
                </a:solidFill>
                <a:latin typeface="Arial"/>
              </a:rPr>
              <a:t>, 3rd ed. (Champaign, IL: Human Kinetics).</a:t>
            </a:r>
            <a:endParaRPr b="0" lang="en-US" sz="1000" spc="-1" strike="noStrike">
              <a:solidFill>
                <a:srgbClr val="000000"/>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7436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Body: Activities to Enhance </a:t>
            </a:r>
            <a:br>
              <a:rPr sz="3600"/>
            </a:br>
            <a:r>
              <a:rPr b="1" lang="en-US" sz="3600" spc="-1" strike="noStrike">
                <a:solidFill>
                  <a:srgbClr val="3ea44f"/>
                </a:solidFill>
                <a:latin typeface="Arial"/>
              </a:rPr>
              <a:t>Physical Wellness</a:t>
            </a:r>
            <a:endParaRPr b="1" lang="en-US" sz="3600" spc="-1" strike="noStrike">
              <a:solidFill>
                <a:srgbClr val="3ea44f"/>
              </a:solidFill>
              <a:latin typeface="Arial"/>
            </a:endParaRPr>
          </a:p>
        </p:txBody>
      </p:sp>
      <p:sp>
        <p:nvSpPr>
          <p:cNvPr id="72" name=""/>
          <p:cNvSpPr txBox="1"/>
          <p:nvPr/>
        </p:nvSpPr>
        <p:spPr>
          <a:xfrm>
            <a:off x="571680" y="2133720"/>
            <a:ext cx="8051760" cy="4433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moking cessatio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erobic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lking club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ength train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od literac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ing healthy foods and cooking with healthy oil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dful eating</a:t>
            </a:r>
            <a:endParaRPr b="1"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tinued)</a:t>
            </a:r>
            <a:endParaRPr b="1" lang="en-US" sz="20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77436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Body: Activities to Enhance </a:t>
            </a:r>
            <a:br>
              <a:rPr sz="3600"/>
            </a:br>
            <a:r>
              <a:rPr b="1" lang="en-US" sz="3600" spc="-1" strike="noStrike">
                <a:solidFill>
                  <a:srgbClr val="3ea44f"/>
                </a:solidFill>
                <a:latin typeface="Arial"/>
              </a:rPr>
              <a:t>Physical Wellness </a:t>
            </a:r>
            <a:r>
              <a:rPr b="1" i="1" lang="en-US" sz="3600" spc="-1" strike="noStrike">
                <a:solidFill>
                  <a:srgbClr val="3ea44f"/>
                </a:solidFill>
                <a:latin typeface="Arial"/>
              </a:rPr>
              <a:t>(continued)</a:t>
            </a:r>
            <a:endParaRPr b="1" lang="en-US" sz="3600" spc="-1" strike="noStrike">
              <a:solidFill>
                <a:srgbClr val="3ea44f"/>
              </a:solidFill>
              <a:latin typeface="Arial"/>
            </a:endParaRPr>
          </a:p>
        </p:txBody>
      </p:sp>
      <p:sp>
        <p:nvSpPr>
          <p:cNvPr id="74" name=""/>
          <p:cNvSpPr txBox="1"/>
          <p:nvPr/>
        </p:nvSpPr>
        <p:spPr>
          <a:xfrm>
            <a:off x="571680" y="2260080"/>
            <a:ext cx="8051760" cy="3480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dful eating:</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o e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to e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e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we eat what we eat?</a:t>
            </a:r>
            <a:endParaRPr b="0" lang="en-US" sz="2400" spc="-1" strike="noStrike">
              <a:solidFill>
                <a:srgbClr val="000000"/>
              </a:solidFill>
              <a:latin typeface="Arial"/>
            </a:endParaRPr>
          </a:p>
        </p:txBody>
      </p:sp>
      <p:sp>
        <p:nvSpPr>
          <p:cNvPr id="75" name="Text Box 4"/>
          <p:cNvSpPr/>
          <p:nvPr/>
        </p:nvSpPr>
        <p:spPr>
          <a:xfrm>
            <a:off x="117360" y="6261120"/>
            <a:ext cx="890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h &amp; Cheung. (2010). Savor: Mindful Eating, Mindful Life. HarperOne. www.savorthebook.com</a:t>
            </a:r>
            <a:endParaRPr b="0" lang="en-US" sz="12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64728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Spirit: Activities to Enhance</a:t>
            </a:r>
            <a:br>
              <a:rPr sz="3600"/>
            </a:br>
            <a:r>
              <a:rPr b="1" lang="en-US" sz="3600" spc="-1" strike="noStrike">
                <a:solidFill>
                  <a:srgbClr val="3ea44f"/>
                </a:solidFill>
                <a:latin typeface="Arial"/>
              </a:rPr>
              <a:t>Social and Spiritual Wellness</a:t>
            </a:r>
            <a:endParaRPr b="1" lang="en-US" sz="3600" spc="-1" strike="noStrike">
              <a:solidFill>
                <a:srgbClr val="3ea44f"/>
              </a:solidFill>
              <a:latin typeface="Arial"/>
            </a:endParaRPr>
          </a:p>
        </p:txBody>
      </p:sp>
      <p:sp>
        <p:nvSpPr>
          <p:cNvPr id="77" name=""/>
          <p:cNvSpPr txBox="1"/>
          <p:nvPr/>
        </p:nvSpPr>
        <p:spPr>
          <a:xfrm>
            <a:off x="571680" y="2133720"/>
            <a:ext cx="8051760" cy="4317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urnal writing and writing group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nding time in natur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rden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int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g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stening to music</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ditatio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ga, Tai Chi</a:t>
            </a:r>
            <a:endParaRPr b="1" lang="en-US" sz="2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Questions for Discussion</a:t>
            </a:r>
            <a:endParaRPr b="1" lang="en-US" sz="3600" spc="-1" strike="noStrike">
              <a:solidFill>
                <a:srgbClr val="3ea44f"/>
              </a:solidFill>
              <a:latin typeface="Arial"/>
            </a:endParaRPr>
          </a:p>
        </p:txBody>
      </p:sp>
      <p:sp>
        <p:nvSpPr>
          <p:cNvPr id="79"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is wellness importan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would you rate the overall health of the students in this school? Why?</a:t>
            </a:r>
            <a:endParaRPr b="1" lang="en-US" sz="2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32976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an You Ring the Wellness Bell?</a:t>
            </a:r>
            <a:endParaRPr b="1" lang="en-US" sz="3600" spc="-1" strike="noStrike">
              <a:solidFill>
                <a:srgbClr val="3ea44f"/>
              </a:solidFill>
              <a:latin typeface="Arial"/>
            </a:endParaRPr>
          </a:p>
        </p:txBody>
      </p:sp>
      <p:pic>
        <p:nvPicPr>
          <p:cNvPr id="81" name="Picture 9" descr="288335_E4147"/>
          <p:cNvPicPr/>
          <p:nvPr/>
        </p:nvPicPr>
        <p:blipFill>
          <a:blip r:embed="rId1"/>
          <a:stretch/>
        </p:blipFill>
        <p:spPr>
          <a:xfrm>
            <a:off x="3038400" y="1300320"/>
            <a:ext cx="3392640" cy="501948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288594_E4147"/>
          <p:cNvPicPr/>
          <p:nvPr/>
        </p:nvPicPr>
        <p:blipFill>
          <a:blip r:embed="rId1"/>
          <a:stretch/>
        </p:blipFill>
        <p:spPr>
          <a:xfrm>
            <a:off x="1903320" y="379440"/>
            <a:ext cx="5281560" cy="609912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Stress Reduction and the </a:t>
            </a:r>
            <a:br>
              <a:rPr sz="3600"/>
            </a:br>
            <a:r>
              <a:rPr b="1" lang="en-US" sz="3600" spc="-1" strike="noStrike">
                <a:solidFill>
                  <a:srgbClr val="3ea44f"/>
                </a:solidFill>
                <a:latin typeface="Arial"/>
              </a:rPr>
              <a:t>Relaxation Response*</a:t>
            </a:r>
            <a:endParaRPr b="1" lang="en-US" sz="3600" spc="-1" strike="noStrike">
              <a:solidFill>
                <a:srgbClr val="3ea44f"/>
              </a:solidFill>
              <a:latin typeface="Arial"/>
            </a:endParaRPr>
          </a:p>
        </p:txBody>
      </p:sp>
      <p:sp>
        <p:nvSpPr>
          <p:cNvPr id="84"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ess management is a key aspect of wellnes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laxation response is one way to practice mindfulness. It is a physical state in which heart rate, blood pressure, and muscle tension decreas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iciting the relaxation response can help reduce stress in our lives.</a:t>
            </a:r>
            <a:endParaRPr b="1" lang="en-US" sz="2800" spc="-1" strike="noStrike">
              <a:solidFill>
                <a:srgbClr val="000000"/>
              </a:solidFill>
              <a:latin typeface="Arial"/>
            </a:endParaRPr>
          </a:p>
        </p:txBody>
      </p:sp>
      <p:sp>
        <p:nvSpPr>
          <p:cNvPr id="85" name="Text Box 4"/>
          <p:cNvSpPr/>
          <p:nvPr/>
        </p:nvSpPr>
        <p:spPr>
          <a:xfrm>
            <a:off x="103320" y="6497640"/>
            <a:ext cx="8935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apted from the Benson-Henry Institute for Mind Body Medicine at Massachusetts General Hospital</a:t>
            </a:r>
            <a:endParaRPr b="0" lang="en-US" sz="1200" spc="-1" strike="noStrike">
              <a:solidFill>
                <a:srgbClr val="000000"/>
              </a:solidFill>
              <a:latin typeface="Times New Roman"/>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Eliciting the Relaxation Response Through Mindful Breathing</a:t>
            </a:r>
            <a:endParaRPr b="1" lang="en-US" sz="3600" spc="-1" strike="noStrike">
              <a:solidFill>
                <a:srgbClr val="3ea44f"/>
              </a:solidFill>
              <a:latin typeface="Arial"/>
            </a:endParaRPr>
          </a:p>
        </p:txBody>
      </p:sp>
      <p:sp>
        <p:nvSpPr>
          <p:cNvPr id="87" name=""/>
          <p:cNvSpPr txBox="1"/>
          <p:nvPr/>
        </p:nvSpPr>
        <p:spPr>
          <a:xfrm>
            <a:off x="571680" y="177120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t quietly in a comfortable positio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us on a repeated word or phrase or on the breath.</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regard everyday thoughts that come to min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y focused on your word or phrase or on your breath.</a:t>
            </a:r>
            <a:endParaRPr b="1" lang="en-US" sz="2800" spc="-1" strike="noStrike">
              <a:solidFill>
                <a:srgbClr val="000000"/>
              </a:solidFill>
              <a:latin typeface="Arial"/>
            </a:endParaRPr>
          </a:p>
        </p:txBody>
      </p:sp>
      <p:sp>
        <p:nvSpPr>
          <p:cNvPr id="88" name="Text Box 4"/>
          <p:cNvSpPr/>
          <p:nvPr/>
        </p:nvSpPr>
        <p:spPr>
          <a:xfrm>
            <a:off x="103320" y="6497640"/>
            <a:ext cx="8935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apted from the Benson-Henry Institute for Mind Body Medicine at Massachusetts General Hospital</a:t>
            </a:r>
            <a:endParaRPr b="0" lang="en-US" sz="1200" spc="-1" strike="noStrike">
              <a:solidFill>
                <a:srgbClr val="000000"/>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3902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Lifestyle Change Card</a:t>
            </a:r>
            <a:endParaRPr b="1" lang="en-US" sz="3600" spc="-1" strike="noStrike">
              <a:solidFill>
                <a:srgbClr val="3ea44f"/>
              </a:solidFill>
              <a:latin typeface="Arial"/>
            </a:endParaRPr>
          </a:p>
        </p:txBody>
      </p:sp>
      <p:sp>
        <p:nvSpPr>
          <p:cNvPr id="90" name=""/>
          <p:cNvSpPr txBox="1"/>
          <p:nvPr/>
        </p:nvSpPr>
        <p:spPr>
          <a:xfrm>
            <a:off x="281160" y="1388880"/>
            <a:ext cx="8302320" cy="5213160"/>
          </a:xfrm>
          <a:prstGeom prst="rect">
            <a:avLst/>
          </a:prstGeom>
          <a:noFill/>
          <a:ln w="0">
            <a:noFill/>
          </a:ln>
        </p:spPr>
        <p:txBody>
          <a:bodyPr anchor="t">
            <a:normAutofit/>
          </a:bodyPr>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ersonal Health Declaration of Independence</a:t>
            </a:r>
            <a:endParaRPr b="0" lang="en-US" sz="1800" spc="-1" strike="noStrike">
              <a:solidFill>
                <a:srgbClr val="000000"/>
              </a:solidFill>
              <a:latin typeface="Arial"/>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 believe that among my inalienable rights are the rights to health, happiness, and a longer life. To secure these rights, I will become more conscious of the whole person that is me. This plan is duly constituted by me and will be reviewed regularly.</a:t>
            </a:r>
            <a:endParaRPr b="0" lang="en-US" sz="1800" spc="-1" strike="noStrike">
              <a:solidFill>
                <a:srgbClr val="000000"/>
              </a:solidFill>
              <a:latin typeface="Arial"/>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 pledge to put into practice, with verve, that which I have written for each area:</a:t>
            </a:r>
            <a:endParaRPr b="0" lang="en-US" sz="1800" spc="-1" strike="noStrike">
              <a:solidFill>
                <a:srgbClr val="000000"/>
              </a:solidFill>
              <a:latin typeface="Arial"/>
            </a:endParaRPr>
          </a:p>
          <a:p>
            <a:pPr lvl="2" marL="1143000" indent="-228600">
              <a:lnSpc>
                <a:spcPct val="17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hysical ___________________________________</a:t>
            </a:r>
            <a:endParaRPr b="0" lang="en-US" sz="1800" spc="-1" strike="noStrike">
              <a:solidFill>
                <a:srgbClr val="000000"/>
              </a:solidFill>
              <a:latin typeface="Arial"/>
            </a:endParaRPr>
          </a:p>
          <a:p>
            <a:pPr lvl="2" marL="1143000" indent="-228600">
              <a:lnSpc>
                <a:spcPct val="17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cial _____________________________________</a:t>
            </a:r>
            <a:endParaRPr b="0" lang="en-US" sz="1800" spc="-1" strike="noStrike">
              <a:solidFill>
                <a:srgbClr val="000000"/>
              </a:solidFill>
              <a:latin typeface="Arial"/>
            </a:endParaRPr>
          </a:p>
          <a:p>
            <a:pPr lvl="2" marL="1143000" indent="-228600">
              <a:lnSpc>
                <a:spcPct val="17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motional _________________________________</a:t>
            </a:r>
            <a:endParaRPr b="0" lang="en-US" sz="1800" spc="-1" strike="noStrike">
              <a:solidFill>
                <a:srgbClr val="000000"/>
              </a:solidFill>
              <a:latin typeface="Arial"/>
            </a:endParaRPr>
          </a:p>
          <a:p>
            <a:pPr lvl="2" marL="1143000" indent="-228600">
              <a:lnSpc>
                <a:spcPct val="17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tellectual _________________________________</a:t>
            </a:r>
            <a:endParaRPr b="0" lang="en-US" sz="1800" spc="-1" strike="noStrike">
              <a:solidFill>
                <a:srgbClr val="000000"/>
              </a:solidFill>
              <a:latin typeface="Arial"/>
            </a:endParaRPr>
          </a:p>
          <a:p>
            <a:pPr lvl="2" marL="1143000" indent="-228600">
              <a:lnSpc>
                <a:spcPct val="17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piritual ___________________________________</a:t>
            </a:r>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1901880" y="2714760"/>
            <a:ext cx="5456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a44f"/>
                </a:solidFill>
                <a:latin typeface="Arial"/>
              </a:rPr>
              <a:t>Questions?</a:t>
            </a:r>
            <a:endParaRPr b="0" lang="en-US" sz="4000" spc="-1" strike="noStrike">
              <a:solidFill>
                <a:srgbClr val="00000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Agenda</a:t>
            </a:r>
            <a:endParaRPr b="1" lang="en-US" sz="3600" spc="-1" strike="noStrike">
              <a:solidFill>
                <a:srgbClr val="3ea44f"/>
              </a:solidFill>
              <a:latin typeface="Arial"/>
            </a:endParaRPr>
          </a:p>
        </p:txBody>
      </p:sp>
      <p:sp>
        <p:nvSpPr>
          <p:cNvPr id="54"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cription of wellnes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ys we can achieve mental, physical, and social wellnes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ess reduction and the relaxation respons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ing a commitment to healthy lifestyle chang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What Is Wellness?</a:t>
            </a:r>
            <a:endParaRPr b="1" lang="en-US" sz="3600" spc="-1" strike="noStrike">
              <a:solidFill>
                <a:srgbClr val="3ea44f"/>
              </a:solidFill>
              <a:latin typeface="Arial"/>
            </a:endParaRPr>
          </a:p>
        </p:txBody>
      </p:sp>
      <p:sp>
        <p:nvSpPr>
          <p:cNvPr id="56" name="Text Box 4"/>
          <p:cNvSpPr/>
          <p:nvPr/>
        </p:nvSpPr>
        <p:spPr>
          <a:xfrm>
            <a:off x="693720" y="2344680"/>
            <a:ext cx="7580160" cy="284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ellness is a choice of lifestyle marked by a balance of mind, body, and spirit.</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6728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Body: Physical Wellness</a:t>
            </a:r>
            <a:endParaRPr b="1" lang="en-US" sz="3600" spc="-1" strike="noStrike">
              <a:solidFill>
                <a:srgbClr val="3ea44f"/>
              </a:solidFill>
              <a:latin typeface="Arial"/>
            </a:endParaRPr>
          </a:p>
        </p:txBody>
      </p:sp>
      <p:sp>
        <p:nvSpPr>
          <p:cNvPr id="58"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al wellness involves aspects of health related directly to the bod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al wellness means you can get through the day with enough energy for work and play.</a:t>
            </a:r>
            <a:endParaRPr b="1" lang="en-US" sz="2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6728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Mind: Emotional and Intellectual Wellness</a:t>
            </a:r>
            <a:endParaRPr b="1" lang="en-US" sz="3600" spc="-1" strike="noStrike">
              <a:solidFill>
                <a:srgbClr val="3ea44f"/>
              </a:solidFill>
              <a:latin typeface="Arial"/>
            </a:endParaRPr>
          </a:p>
        </p:txBody>
      </p:sp>
      <p:sp>
        <p:nvSpPr>
          <p:cNvPr id="60" name=""/>
          <p:cNvSpPr txBox="1"/>
          <p:nvPr/>
        </p:nvSpPr>
        <p:spPr>
          <a:xfrm>
            <a:off x="571680" y="215856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otional wellness involves a sense of self-worth and an acceptance of things that are different.</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llectual wellness involves your ability to use the knowledge that you acquire.</a:t>
            </a:r>
            <a:endParaRPr b="1" lang="en-US" sz="2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59652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Spirit: Social and Spiritual Wellness</a:t>
            </a:r>
            <a:endParaRPr b="1" lang="en-US" sz="3600" spc="-1" strike="noStrike">
              <a:solidFill>
                <a:srgbClr val="3ea44f"/>
              </a:solidFill>
              <a:latin typeface="Arial"/>
            </a:endParaRPr>
          </a:p>
        </p:txBody>
      </p:sp>
      <p:sp>
        <p:nvSpPr>
          <p:cNvPr id="62"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 wellness involves interacting with people and the environment and having satisfying relationship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iritual wellness involves your relationship to other living things and the role of spiritual direction in your life, working to find potential and find harmony in living.</a:t>
            </a:r>
            <a:endParaRPr b="1" lang="en-US" sz="2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Group Activity: Mind, Body, Spirit</a:t>
            </a:r>
            <a:endParaRPr b="1" lang="en-US" sz="3600" spc="-1" strike="noStrike">
              <a:solidFill>
                <a:srgbClr val="3ea44f"/>
              </a:solidFill>
              <a:latin typeface="Arial"/>
            </a:endParaRPr>
          </a:p>
        </p:txBody>
      </p:sp>
      <p:pic>
        <p:nvPicPr>
          <p:cNvPr id="64" name="Picture 6" descr="288590_E4147"/>
          <p:cNvPicPr/>
          <p:nvPr/>
        </p:nvPicPr>
        <p:blipFill>
          <a:blip r:embed="rId1"/>
          <a:stretch/>
        </p:blipFill>
        <p:spPr>
          <a:xfrm>
            <a:off x="1805040" y="1550880"/>
            <a:ext cx="5537160" cy="4791240"/>
          </a:xfrm>
          <a:prstGeom prst="rect">
            <a:avLst/>
          </a:prstGeom>
          <a:ln w="0">
            <a:noFill/>
          </a:ln>
        </p:spPr>
      </p:pic>
      <p:sp>
        <p:nvSpPr>
          <p:cNvPr id="65" name="TextBox 1"/>
          <p:cNvSpPr/>
          <p:nvPr/>
        </p:nvSpPr>
        <p:spPr>
          <a:xfrm>
            <a:off x="3390840" y="5283360"/>
            <a:ext cx="210816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cial wellness</a:t>
            </a:r>
            <a:endParaRPr b="0" lang="en-US" sz="1900" spc="-1" strike="noStrike">
              <a:solidFill>
                <a:srgbClr val="000000"/>
              </a:solidFill>
              <a:latin typeface="Times New Roman"/>
            </a:endParaRPr>
          </a:p>
        </p:txBody>
      </p:sp>
      <p:sp>
        <p:nvSpPr>
          <p:cNvPr id="66" name="Rectangle 2"/>
          <p:cNvSpPr/>
          <p:nvPr/>
        </p:nvSpPr>
        <p:spPr>
          <a:xfrm>
            <a:off x="2120760" y="2730600"/>
            <a:ext cx="1866960" cy="2667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6728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Mind: Activities to Enhance Psychological Wellness</a:t>
            </a:r>
            <a:endParaRPr b="1" lang="en-US" sz="3600" spc="-1" strike="noStrike">
              <a:solidFill>
                <a:srgbClr val="3ea44f"/>
              </a:solidFill>
              <a:latin typeface="Arial"/>
            </a:endParaRPr>
          </a:p>
        </p:txBody>
      </p:sp>
      <p:sp>
        <p:nvSpPr>
          <p:cNvPr id="68" name=""/>
          <p:cNvSpPr txBox="1"/>
          <p:nvPr/>
        </p:nvSpPr>
        <p:spPr>
          <a:xfrm>
            <a:off x="571680" y="2158560"/>
            <a:ext cx="8051760" cy="43182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rt groups for grieving</a:t>
            </a:r>
            <a:endParaRPr b="1"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 management techniques</a:t>
            </a:r>
            <a:endParaRPr b="1"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ilitated communication classes</a:t>
            </a:r>
            <a:endParaRPr b="1"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ssage therapy</a:t>
            </a:r>
            <a:endParaRPr b="1"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groups</a:t>
            </a:r>
            <a:endParaRPr b="1"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ep breathing techniques</a:t>
            </a:r>
            <a:endParaRPr b="1"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dfulness</a:t>
            </a:r>
            <a:endParaRPr b="1" lang="en-US" sz="28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3394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tinued)</a:t>
            </a:r>
            <a:endParaRPr b="1" lang="en-US" sz="20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6728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Mind: Activities to Enhance Psychological Wellness </a:t>
            </a:r>
            <a:r>
              <a:rPr b="1" i="1" lang="en-US" sz="3600" spc="-1" strike="noStrike">
                <a:solidFill>
                  <a:srgbClr val="3ea44f"/>
                </a:solidFill>
                <a:latin typeface="Arial"/>
              </a:rPr>
              <a:t>(continued)</a:t>
            </a:r>
            <a:endParaRPr b="1" lang="en-US" sz="3600" spc="-1" strike="noStrike">
              <a:solidFill>
                <a:srgbClr val="3ea44f"/>
              </a:solidFill>
              <a:latin typeface="Arial"/>
            </a:endParaRPr>
          </a:p>
        </p:txBody>
      </p:sp>
      <p:sp>
        <p:nvSpPr>
          <p:cNvPr id="70" name=""/>
          <p:cNvSpPr txBox="1"/>
          <p:nvPr/>
        </p:nvSpPr>
        <p:spPr>
          <a:xfrm>
            <a:off x="571680" y="215856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indfulness </a:t>
            </a:r>
            <a:r>
              <a:rPr b="1" lang="en-US" sz="2800" spc="-1" strike="noStrike">
                <a:solidFill>
                  <a:srgbClr val="000000"/>
                </a:solidFill>
                <a:latin typeface="Arial"/>
              </a:rPr>
              <a:t>is the practice of being fully present in each moment. Be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ceptive</a:t>
            </a: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pen</a:t>
            </a: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ccepting of things as they are</a:t>
            </a:r>
            <a:endParaRPr b="1" lang="en-US" sz="2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19:53:31Z</dcterms:created>
  <dc:creator>lynnd</dc:creator>
  <dc:description/>
  <dc:language>en-US</dc:language>
  <cp:lastModifiedBy>Derek Campbell</cp:lastModifiedBy>
  <cp:lastPrinted>2007-07-31T18:04:11Z</cp:lastPrinted>
  <dcterms:modified xsi:type="dcterms:W3CDTF">2015-11-19T16:53:56Z</dcterms:modified>
  <cp:revision>112</cp:revision>
  <dc:subject/>
  <dc:title>chapter ??</dc:title>
</cp:coreProperties>
</file>