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136F-D9D5-459A-AE7D-1C22272D2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949A9E-EF82-4AAD-B76F-9ED172F98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each participant a copy of this presentation, obtained by printing the PDF version of these slides in the Training 1 folder on this Web Resour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ourth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raining session. Today’s session delves deeper into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the guidelines for healthy eating and physical activity that form the core of the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program; it also introduces the Nutrition Facts food lab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yourself. If the session is small enough, have participants introduce themselv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1B71-0DBA-4F17-8A67-8E16DF175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e.g., broccoli, spinach, and carrots) provide vitamins A and C and folate as well as iron and magnesium. They are also high in f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vegetables in a rainbow of colors, especially dark green (e.g., broccoli, spinach, romaine lettuce, bok choy, kale) and orange (e.g., carrots, sweet potatoes, winter squ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Sweet Potatoes Nutrition Facts label from lesson 10 in the book, and discuss serving sizes and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erving of vegetables is 1/2 cup of cooked or raw vegetables (like baby carrots or green beans), or 1 cup of raw leafy vegetab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4302-3233-43F2-BB4D-988A6489E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nutrients from the grains category are carbohydrate, fiber, and some vitamins and minerals. </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ains group, the healthiest choices are whole grains, the less processed the better. Whole grains are a much better choice than refined grains (such as white bread, white rice, and white pasta) because the refining process breaks down the intact grain and strips away many beneficial nutrients. Even though refined grains are fortified with vitamins and minerals in the U.S. and many other countries, fortification is not standard everywhere, and fortification does not replace all of the lost nutrients.</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blem with refined grains is that they get digested and absorbed very quickly, which can cause </a:t>
            </a:r>
            <a:r>
              <a:rPr b="0" lang="nl-NL" sz="1200" spc="-1" strike="noStrike">
                <a:solidFill>
                  <a:srgbClr val="000000"/>
                </a:solidFill>
                <a:latin typeface="Times New Roman"/>
              </a:rPr>
              <a:t>blood </a:t>
            </a:r>
            <a:r>
              <a:rPr b="0" lang="en-US" sz="1200" spc="-1" strike="noStrike">
                <a:solidFill>
                  <a:srgbClr val="000000"/>
                </a:solidFill>
                <a:latin typeface="Times New Roman"/>
              </a:rPr>
              <a:t>sugar levels to spike. In response, the body quickly takes up sugar from the blood and puts it into storage (in muscle, fat, and the liver) to bring sugar levels down to normal. Working so quickly may cause the body to overshoot things however, making blood sugar levels a bit lower than they should be. This can cause feelings of false hunger (even after a big meal) and tiredness.</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s that list a whole grain as the first ingredient and that keep the grain as intact as possible (e.g., choose coarsely ground steel-cut oatmeal rather than instant oatmeal for breakfast).</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atch out for added sugar in the ingredient list, which can be labeled as fructose, glucose, sucrose, corn syrup, and honey, among others. Many grain-based foods, especially cereals, are marketed as being “made with whole grains,” and often list a whole grain as the first ingredient—yet added</a:t>
            </a:r>
            <a:r>
              <a:rPr b="0" lang="es-ES_tradnl" sz="1200" spc="-1" strike="noStrike">
                <a:solidFill>
                  <a:srgbClr val="000000"/>
                </a:solidFill>
                <a:latin typeface="Times New Roman"/>
              </a:rPr>
              <a:t> sugar </a:t>
            </a:r>
            <a:r>
              <a:rPr b="0" lang="en-US" sz="1200" spc="-1" strike="noStrike">
                <a:solidFill>
                  <a:srgbClr val="000000"/>
                </a:solidFill>
                <a:latin typeface="Times New Roman"/>
              </a:rPr>
              <a:t>is also included at the top of the ingredients list, or it appears multiple times throughout the list.</a:t>
            </a:r>
            <a:endParaRPr b="0" lang="en-US" sz="1200" spc="-1" strike="noStrike">
              <a:solidFill>
                <a:srgbClr val="000000"/>
              </a:solidFill>
              <a:latin typeface="Times New Roman"/>
            </a:endParaRPr>
          </a:p>
          <a:p>
            <a:pPr marL="1713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whole grains include 100% whole-wheat bread and pasta, whole-grain crackers and breakfast cereals, barley, brown rice, and quino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65E7-0FC9-49B8-8BD2-F87A24B9C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in the protein group supply protein, B vitamins, iron, and zinc. They are primarily responsible for building and repairing muscles and tissues, digesting nutrients, and improving immunity and bl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healthy sources of protein, including nuts, seeds, beans, and peas, as well as fish, poultry, and vegetarian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Chicken Nutrition Facts label in lesson 10, and discuss nutri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1893-4187-4179-A873-FE03576B1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from the dairy</a:t>
            </a:r>
            <a:r>
              <a:rPr b="0" i="1" lang="en-US" sz="1200" spc="-1" strike="noStrike">
                <a:solidFill>
                  <a:srgbClr val="000000"/>
                </a:solidFill>
                <a:latin typeface="Times New Roman"/>
              </a:rPr>
              <a:t> </a:t>
            </a:r>
            <a:r>
              <a:rPr b="0" lang="en-US" sz="1200" spc="-1" strike="noStrike">
                <a:solidFill>
                  <a:srgbClr val="000000"/>
                </a:solidFill>
                <a:latin typeface="Times New Roman"/>
              </a:rPr>
              <a:t>group are needed in lower proportions than foods from the other groups, but milk and other dairy foods are common sources of calcium and vitamin D. They also supply protein, riboflavin, and vitamins A and D (if fortified), and help promote strong bones and healthy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choices include unflavored milk, plain yogurt, and other unsweetened dairy foods. People who cannot consume dairy can choose lactose-free milk or calcium-fortified nondairy alternatives such as unflavored and unsweetened rice milk or soy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optimal intake of dairy products has yet to be determined and the research is still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 review the most up-to-date evidence on dairy consumption, you can visit or point participants to the Kid’s Healthy Eating Plate web page on The Nutrition Source: www.hsph.harvard.edu/nutritionsource/kids-healthy-eating-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Milk Nutrition Facts label in lesson 10, and discuss nutrien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B31C-D7BF-4A58-B967-029A85136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foods contain foods from more than one food group (e.g., a brown rice and bean burrito with cheese: the tortilla and brown rice are in the grains group; the beans are in the protein group; and the cheese is in the dairy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d foods are those prepared and packaged by manufacturers. Salt and other sodium-containing ingredients are often used in food process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7D6-B2E9-416F-A873-2C807012C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food can supply all the nutrients needed to maintain good health. Similarly, not all foods in the same group contain the same nutrients. Oranges, for instance, do not contain much vitamin A, but cantaloupe is a good source of this vitam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foods from all the food groups each day and choosing a variety of best-choice foods within each food group will help you meet your nutritional requirements. It will also make your diet more inte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e best choices within each food group, remember the Kid’s Healthy Eating Plate and these guidelines from the Principles of Healthy Liv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colorful fruits and vegetables instead of junk food (especially dark-green and orange vegetabl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whole-grain foods and limit foods with added suga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the switch from sugary drinks to wate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s with healthy fat, limit foods high in saturated fat, and avoid foods with trans f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E3EB-6F73-4C76-91C2-DA0F666AB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Tour de Health Scorecard, several small slips of paper, and markers to each group. Shuffle the deck of Tour de Health Game Cards, and place it facedown on the top of a 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play a healthy living game that is part of 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lassroom lessons. Let’s review the directions and play a roun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gets a scorecard and a marker. I </a:t>
            </a:r>
            <a:r>
              <a:rPr b="0" i="1" lang="en-US" sz="1200" spc="-1" strike="noStrike">
                <a:solidFill>
                  <a:srgbClr val="000000"/>
                </a:solidFill>
                <a:latin typeface="Times New Roman"/>
              </a:rPr>
              <a:t>(the trainer) </a:t>
            </a:r>
            <a:r>
              <a:rPr b="0" lang="en-US" sz="1200" spc="-1" strike="noStrike">
                <a:solidFill>
                  <a:srgbClr val="000000"/>
                </a:solidFill>
                <a:latin typeface="Times New Roman"/>
              </a:rPr>
              <a:t>will draw one card at a time, in order from the top of the deck, and read the category of the question (e.g., Whole Grains, Keep Moving). I will then read the question to all of the groups. Questions are either multiple choice or true or false. Each group should decide on a response to the question, and write down the answer on a slip of paper. I will ask each group for its response. When a group answers correctly, it will receive 1, 2, or 3 points, depending on the value of the question. Each group enters its points on its scorecard in the related category column. For example, if a group earns 2 points for answering a Keep Moving question, it enters 2 points in the Keep Moving colum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inning the ga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one: Play can be timed for 15 or 20 minutes, and the group with the most points at the end wi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two: First group to get 20 total points wi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 like you may offer incentives or prizes [pens, T-shirts, gift certificates, trinkets, or hats] to the winn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5896-A2D3-4464-B4F6-04EE5739F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fter the conclusion of Tour de Health, ask participants if they have any fi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e next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ession will discuss the program’s food and activity promo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0CFA-EF16-4C65-B1A1-6E3A0EE9C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go over the agenda with participa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6A1D-1F0A-42B7-A74B-126CE397F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Getting Acquainted handout from the Additional Resources folder on this Web Resource</a:t>
            </a:r>
            <a:r>
              <a:rPr b="1" i="1" lang="en-US" sz="1200" spc="-1" strike="noStrike">
                <a:solidFill>
                  <a:srgbClr val="000000"/>
                </a:solidFill>
                <a:latin typeface="Times New Roman"/>
              </a:rPr>
              <a:t>,</a:t>
            </a:r>
            <a:r>
              <a:rPr b="0" i="1" lang="en-US" sz="1200" spc="-1" strike="noStrike">
                <a:solidFill>
                  <a:srgbClr val="000000"/>
                </a:solidFill>
                <a:latin typeface="Times New Roman"/>
              </a:rPr>
              <a:t> and ask participants to follow the instructions and fill in the table with others’ sign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en the activity is complete, ask for a show of hands of people who could have signed numbers 1 through 8 on the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Principles of Healthy Living with participants, and remind them that these guidelines form the basis of the </a:t>
            </a:r>
            <a:r>
              <a:rPr b="0" lang="en-US" sz="1200" spc="-1" strike="noStrike">
                <a:solidFill>
                  <a:srgbClr val="000000"/>
                </a:solidFill>
                <a:latin typeface="Times New Roman"/>
              </a:rPr>
              <a:t>Eat Well &amp; Keep Moving </a:t>
            </a:r>
            <a:r>
              <a:rPr b="0" i="1" lang="en-US" sz="1200" spc="-1" strike="noStrike">
                <a:solidFill>
                  <a:srgbClr val="000000"/>
                </a:solidFill>
                <a:latin typeface="Times New Roman"/>
              </a:rPr>
              <a:t>progra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BD3C-1C70-4D84-85FC-34CBB865E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today is on healthy eating and active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mericans have many food choices, some of which affect our health positively or nega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od service workers, we face the challenge of providing nutritious and tasty foods to students so that they can make healthy food choices. It’s our obligation to offer the best food choic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A98F-1994-4CE7-A9D2-305C2D1C6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Department of Agriculture (USDA), Department of Health and Human Services, and Food and Drug Administration (FDA) have taken the massive amounts of nutrient data, current research, and consumer studies and developed tools for consumers to use in making nutritious food choices. These tools require very little math to calculate the nutrient values in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a:t>
            </a:r>
            <a:r>
              <a:rPr b="0" lang="en-US" sz="1200" spc="-1" strike="noStrike">
                <a:solidFill>
                  <a:srgbClr val="000000"/>
                </a:solidFill>
                <a:latin typeface="Times New Roman"/>
              </a:rPr>
              <a:t> provides basic guidance for individuals seeking a healthy lifestyle. These guidelines provide nutrition and physical activity advice for healthy Americans over the age of 2 years; they are also the basis for school meals and the National School Lunch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trition Facts food label was developed to provide nutrition information on individual foo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CEBB-EC22-4F50-A5A9-BF29AF076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a variety of foods keeps our meals interesting and flavorful. It’s also the key to a healthy and balanced diet because each food has a unique mix of nutrients—both macronutrients (carbohydrate, protein, and fat) and micronutrients (vitamins and miner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fruits, grains, protein, and dairy make up the five basic food groups, but not all options within these groups are equally beneficial or healthy, and some foods—especially those from plants—are needed in greater proportion than oth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92C1-5954-4968-87D4-D5B89F7DC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Kid’s Healthy Eating Plate handout from the Additional Resources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Kid</a:t>
            </a:r>
            <a:r>
              <a:rPr b="1" lang="fr-FR" sz="1200" spc="-1" strike="noStrike">
                <a:solidFill>
                  <a:srgbClr val="000000"/>
                </a:solidFill>
                <a:latin typeface="Times New Roman"/>
              </a:rPr>
              <a:t>’</a:t>
            </a:r>
            <a:r>
              <a:rPr b="1" lang="en-US" sz="1200" spc="-1" strike="noStrike">
                <a:solidFill>
                  <a:srgbClr val="000000"/>
                </a:solidFill>
                <a:latin typeface="Times New Roman"/>
              </a:rPr>
              <a:t>s Healthy Eating Plate </a:t>
            </a:r>
            <a:r>
              <a:rPr b="0" lang="en-US" sz="1200" spc="-1" strike="noStrike">
                <a:solidFill>
                  <a:srgbClr val="000000"/>
                </a:solidFill>
                <a:latin typeface="Times New Roman"/>
              </a:rPr>
              <a:t>provides a blueprint to help build a balanced meal with the best choices from eac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filling half of our plate with colorful </a:t>
            </a:r>
            <a:r>
              <a:rPr b="1" lang="fr-FR" sz="1200" spc="-1" strike="noStrike">
                <a:solidFill>
                  <a:srgbClr val="000000"/>
                </a:solidFill>
                <a:latin typeface="Times New Roman"/>
              </a:rPr>
              <a:t>vegetables</a:t>
            </a:r>
            <a:r>
              <a:rPr b="1" lang="en-US" sz="1200" spc="-1" strike="noStrike">
                <a:solidFill>
                  <a:srgbClr val="000000"/>
                </a:solidFill>
                <a:latin typeface="Times New Roman"/>
              </a:rPr>
              <a:t> </a:t>
            </a:r>
            <a:r>
              <a:rPr b="0" lang="en-US" sz="1200" spc="-1" strike="noStrike">
                <a:solidFill>
                  <a:srgbClr val="000000"/>
                </a:solidFill>
                <a:latin typeface="Times New Roman"/>
              </a:rPr>
              <a:t>and </a:t>
            </a:r>
            <a:r>
              <a:rPr b="1" lang="nl-NL" sz="1200" spc="-1" strike="noStrike">
                <a:solidFill>
                  <a:srgbClr val="000000"/>
                </a:solidFill>
                <a:latin typeface="Times New Roman"/>
              </a:rPr>
              <a:t>fruits</a:t>
            </a:r>
            <a:r>
              <a:rPr b="0" lang="en-US" sz="1200" spc="-1" strike="noStrike">
                <a:solidFill>
                  <a:srgbClr val="000000"/>
                </a:solidFill>
                <a:latin typeface="Times New Roman"/>
              </a:rPr>
              <a:t>, split the other half between </a:t>
            </a:r>
            <a:r>
              <a:rPr b="1" lang="en-US" sz="1200" spc="-1" strike="noStrike">
                <a:solidFill>
                  <a:srgbClr val="000000"/>
                </a:solidFill>
                <a:latin typeface="Times New Roman"/>
              </a:rPr>
              <a:t>whole grains </a:t>
            </a:r>
            <a:r>
              <a:rPr b="0" lang="en-US" sz="1200" spc="-1" strike="noStrike">
                <a:solidFill>
                  <a:srgbClr val="000000"/>
                </a:solidFill>
                <a:latin typeface="Times New Roman"/>
              </a:rPr>
              <a:t>and </a:t>
            </a:r>
            <a:r>
              <a:rPr b="1" lang="en-US" sz="1200" spc="-1" strike="noStrike">
                <a:solidFill>
                  <a:srgbClr val="000000"/>
                </a:solidFill>
                <a:latin typeface="Times New Roman"/>
              </a:rPr>
              <a:t>healthy protein</a:t>
            </a:r>
            <a:r>
              <a:rPr b="0" lang="en-US" sz="1200" spc="-1" strike="noStrike">
                <a:solidFill>
                  <a:srgbClr val="000000"/>
                </a:solidFill>
                <a:latin typeface="Times New Roman"/>
              </a:rPr>
              <a:t>. Healthy protein includes mostly plant-based options such as nuts, seeds, and beans, but poultry and fish are also excellent choices. Foods from the </a:t>
            </a:r>
            <a:r>
              <a:rPr b="1" lang="fr-FR" sz="1200" spc="-1" strike="noStrike">
                <a:solidFill>
                  <a:srgbClr val="000000"/>
                </a:solidFill>
                <a:latin typeface="Times New Roman"/>
              </a:rPr>
              <a:t>dairy</a:t>
            </a:r>
            <a:r>
              <a:rPr b="0" lang="en-US" sz="1200" spc="-1" strike="noStrike">
                <a:solidFill>
                  <a:srgbClr val="000000"/>
                </a:solidFill>
                <a:latin typeface="Times New Roman"/>
              </a:rPr>
              <a:t> group are needed in lower proportions than foods from the other groups, but milk and other dairy foods are common sources of calcium and vitamin D, so choose unflavored milk, plain yogurt, or other unsweetened dair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also includes elements that are not part of the five food groups, but are additional important reminders for maintaining a healthy diet and lifestyl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ils (plant-based oils such as olive and canola oil) are a great source of healthy fat, and should be used when cooking or as dressing on a sala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hould be the drink of choice at every meal and snack, as well as when staying activ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Kid</a:t>
            </a:r>
            <a:r>
              <a:rPr b="0" lang="fr-FR" sz="1200" spc="-1" strike="noStrike">
                <a:solidFill>
                  <a:srgbClr val="000000"/>
                </a:solidFill>
                <a:latin typeface="Times New Roman"/>
              </a:rPr>
              <a:t>’</a:t>
            </a:r>
            <a:r>
              <a:rPr b="0" lang="en-US" sz="1200" spc="-1" strike="noStrike">
                <a:solidFill>
                  <a:srgbClr val="000000"/>
                </a:solidFill>
                <a:latin typeface="Times New Roman"/>
              </a:rPr>
              <a:t>s Healthy Eating Plate does not contain sugary drinks, sweets, and other junk foods. These are not everyday foods and should only be eaten rarely, if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just like choosing the right foods, incorporating physical activity into our day by staying active is part of the recipe for keep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move on to discussing each of the food groups in a little more detai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E9EA-9DCB-4582-9B1E-B657D5A0E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Best-Choice Foods handout from the Additional Resources folder on this Web Resource. Distribute food labels from lesson 10 for Sweet Potatoes, Plums, Chicken, and Milk.</a:t>
            </a:r>
            <a:r>
              <a:rPr b="1" i="1" lang="en-US" sz="1200" spc="-1" strike="noStrike">
                <a:solidFill>
                  <a:srgbClr val="000000"/>
                </a:solidFill>
                <a:latin typeface="Times New Roman"/>
              </a:rPr>
              <a:t> </a:t>
            </a:r>
            <a:r>
              <a:rPr b="0" i="1" lang="en-US" sz="1200" spc="-1" strike="noStrike">
                <a:solidFill>
                  <a:srgbClr val="000000"/>
                </a:solidFill>
                <a:latin typeface="Times New Roman"/>
              </a:rPr>
              <a:t>Distribute any other food labels you have collected. Review the following information with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s and fruits provide vitamins, minerals, and carbohydrate. In general they promote overall good health and can reduce the risk of diabetes, heart disease, obesity, and possibly some cancers. Eat at least 5 servings of colorful vegetables and fruits every day; eating more is b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9269-DC7B-4DDF-B42C-E1DB3E3D9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s (e.g., oranges, cantaloupe, and strawberries) supply vitamins A and C as well as potassium. They are also high in fi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whole fruits or sliced fruits rather than fruit juices, since they contain the most fiber; if eating canned fruit, choose fruit canned in 100% juice (rather than fruit canned in syrup or with other added sugars and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Plums Nutrition Facts label in lesson 10 of the book,</a:t>
            </a:r>
            <a:r>
              <a:rPr b="0" lang="en-US" sz="1200" spc="-1" strike="noStrike">
                <a:solidFill>
                  <a:srgbClr val="000000"/>
                </a:solidFill>
                <a:latin typeface="Times New Roman"/>
              </a:rPr>
              <a:t> </a:t>
            </a:r>
            <a:r>
              <a:rPr b="0" i="1" lang="en-US" sz="1200" spc="-1" strike="noStrike">
                <a:solidFill>
                  <a:srgbClr val="000000"/>
                </a:solidFill>
                <a:latin typeface="Times New Roman"/>
              </a:rPr>
              <a:t>and discuss differences in serving sizes and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erving of fruit is 1 medium apple, banana, or orange; 1/2 cup chopped or cooked fruit; 1/4 cup of dried fruit, like rais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limit your consumption of 100% fruit juice to no more than 4 to 6 ounces per day; juice has vitamins and minerals, but it is naturally high in fruit sugar (fructose) and it lacks the fiber found in whole fru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406600"/>
            <a:ext cx="854856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our de Health </a:t>
            </a:r>
            <a:br>
              <a:rPr sz="7200"/>
            </a:br>
            <a:r>
              <a:rPr b="1" lang="en-US" sz="7200" spc="-1" strike="noStrike">
                <a:solidFill>
                  <a:srgbClr val="3ea44f"/>
                </a:solidFill>
                <a:latin typeface="Arial"/>
              </a:rPr>
              <a:t>and Nutrition Facts</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Module</a:t>
            </a:r>
            <a:r>
              <a:rPr b="1" lang="en-US" sz="6800" spc="-1" strike="noStrike">
                <a:solidFill>
                  <a:srgbClr val="fbefb3"/>
                </a:solidFill>
                <a:latin typeface="Arial"/>
              </a:rPr>
              <a:t>4</a:t>
            </a:r>
            <a:endParaRPr b="0" lang="en-US" sz="6800" spc="-1" strike="noStrike">
              <a:solidFill>
                <a:srgbClr val="000000"/>
              </a:solidFill>
              <a:latin typeface="Times New Roman"/>
            </a:endParaRPr>
          </a:p>
        </p:txBody>
      </p:sp>
      <p:sp>
        <p:nvSpPr>
          <p:cNvPr id="51" name="Rectangle 4"/>
          <p:cNvSpPr/>
          <p:nvPr/>
        </p:nvSpPr>
        <p:spPr>
          <a:xfrm>
            <a:off x="0" y="572760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7"/>
          <p:cNvSpPr/>
          <p:nvPr/>
        </p:nvSpPr>
        <p:spPr>
          <a:xfrm>
            <a:off x="0" y="639936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31840" y="3776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Vegetables</a:t>
            </a:r>
            <a:endParaRPr b="1" lang="en-US" sz="3600" spc="-1" strike="noStrike">
              <a:solidFill>
                <a:srgbClr val="3ea44f"/>
              </a:solidFill>
              <a:latin typeface="Arial"/>
            </a:endParaRPr>
          </a:p>
        </p:txBody>
      </p:sp>
      <p:sp>
        <p:nvSpPr>
          <p:cNvPr id="80"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vitamins A and C, folate, iron, and magnesiu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in fib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a rainbow of colors, especially dark green and deep oran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serving = 1/2 cup cooked vegetables, 1 cup of leafy salad greens</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622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rains: </a:t>
            </a:r>
            <a:br>
              <a:rPr sz="3600"/>
            </a:br>
            <a:r>
              <a:rPr b="0" i="1" lang="en-US" sz="3600" spc="-1" strike="noStrike">
                <a:solidFill>
                  <a:srgbClr val="3ea44f"/>
                </a:solidFill>
                <a:latin typeface="Arial"/>
              </a:rPr>
              <a:t>Get Whole Grains and Sack the Sugar!</a:t>
            </a:r>
            <a:endParaRPr b="1" lang="en-US" sz="3600" spc="-1" strike="noStrike">
              <a:solidFill>
                <a:srgbClr val="3ea44f"/>
              </a:solidFill>
              <a:latin typeface="Arial"/>
            </a:endParaRPr>
          </a:p>
        </p:txBody>
      </p:sp>
      <p:sp>
        <p:nvSpPr>
          <p:cNvPr id="82" name=""/>
          <p:cNvSpPr txBox="1"/>
          <p:nvPr/>
        </p:nvSpPr>
        <p:spPr>
          <a:xfrm>
            <a:off x="571680" y="1871280"/>
            <a:ext cx="8051760" cy="43182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ins contain carbohydrate, fiber, and some vitamins and mineral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grains are the healthiest choice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oods that list a whole grain as the first ingredient, and watch out for added sugar in the ingredients list.</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whole-grain foods include 100% whole-wheat bread and pasta, steel-cut oatmeal, whole-grain crackers and breakfast cereals, barley, brown rice, and quinoa.</a:t>
            </a:r>
            <a:endParaRPr b="1" lang="en-US" sz="2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tein</a:t>
            </a:r>
            <a:endParaRPr b="1" lang="en-US" sz="3600" spc="-1" strike="noStrike">
              <a:solidFill>
                <a:srgbClr val="3ea44f"/>
              </a:solidFill>
              <a:latin typeface="Arial"/>
            </a:endParaRPr>
          </a:p>
        </p:txBody>
      </p:sp>
      <p:sp>
        <p:nvSpPr>
          <p:cNvPr id="84" name=""/>
          <p:cNvSpPr txBox="1"/>
          <p:nvPr/>
        </p:nvSpPr>
        <p:spPr>
          <a:xfrm>
            <a:off x="571680" y="17521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in protein, B vitamins, and minerals responsible for functions like building and repairing muscles and tissue.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healthy sources of protein, including nuts, seeds, beans, and peas, as well as fish, poultry, and vegetarian alternatives.</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Dairy</a:t>
            </a:r>
            <a:endParaRPr b="1" lang="en-US" sz="3600" spc="-1" strike="noStrike">
              <a:solidFill>
                <a:srgbClr val="3ea44f"/>
              </a:solidFill>
              <a:latin typeface="Arial"/>
            </a:endParaRPr>
          </a:p>
        </p:txBody>
      </p:sp>
      <p:sp>
        <p:nvSpPr>
          <p:cNvPr id="86" name=""/>
          <p:cNvSpPr txBox="1"/>
          <p:nvPr/>
        </p:nvSpPr>
        <p:spPr>
          <a:xfrm>
            <a:off x="558720" y="1355760"/>
            <a:ext cx="8051760" cy="4317840"/>
          </a:xfrm>
          <a:prstGeom prst="rect">
            <a:avLst/>
          </a:prstGeom>
          <a:noFill/>
          <a:ln w="0">
            <a:noFill/>
          </a:ln>
        </p:spPr>
        <p:txBody>
          <a:bodyPr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ry foods are needed in lower proportions than foods from the other groups</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calcium; also contains protein, riboflavin, and vitamins A and D</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es strong bones and healthy teeth</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unflavored milk, plain yogurt, or unsweetened dairy foods</a:t>
            </a:r>
            <a:endParaRPr b="1"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cannot consume dairy can choose lactose-free milk or calcium-fortified nondairy alternatives such as unflavored and unsweetened rice milk or soy milk</a:t>
            </a:r>
            <a:endParaRPr b="1" lang="en-US" sz="2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ombination and Processed Foods</a:t>
            </a:r>
            <a:endParaRPr b="1" lang="en-US" sz="3600" spc="-1" strike="noStrike">
              <a:solidFill>
                <a:srgbClr val="3ea44f"/>
              </a:solidFill>
              <a:latin typeface="Arial"/>
            </a:endParaRPr>
          </a:p>
        </p:txBody>
      </p:sp>
      <p:sp>
        <p:nvSpPr>
          <p:cNvPr id="88"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tion foods contain foods from more than one food group.</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ed foods are prepared and packaged by manufacturers.</a:t>
            </a:r>
            <a:endParaRPr b="1" lang="en-US" sz="2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7920" y="3045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 Balanced Diet</a:t>
            </a:r>
            <a:endParaRPr b="1" lang="en-US" sz="3600" spc="-1" strike="noStrike">
              <a:solidFill>
                <a:srgbClr val="3ea44f"/>
              </a:solidFill>
              <a:latin typeface="Arial"/>
            </a:endParaRPr>
          </a:p>
        </p:txBody>
      </p:sp>
      <p:sp>
        <p:nvSpPr>
          <p:cNvPr id="90" name=""/>
          <p:cNvSpPr txBox="1"/>
          <p:nvPr/>
        </p:nvSpPr>
        <p:spPr>
          <a:xfrm>
            <a:off x="571680" y="1201680"/>
            <a:ext cx="8051760" cy="482616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ingle food supplies all needed nutrients.</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a variety of foods from each group.</a:t>
            </a:r>
            <a:endParaRPr b="1"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 these guidelines to make the best choices:</a:t>
            </a:r>
            <a:endParaRPr b="1"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olorful fruits and vegetables instead of junk foo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whole-grain foods and limit foods with added suga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switch from sugary drinks to water.</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oods with healthy fat, limit foods high in saturated fat, and avoid foods with trans f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863640" y="2674800"/>
            <a:ext cx="736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Arial"/>
              </a:rPr>
              <a:t>Tour de Health</a:t>
            </a:r>
            <a:endParaRPr b="0" lang="en-US" sz="44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7236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genda</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acquainted while learning about the Principles of Healthy Liv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 tools for consum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healthiest food choices from the five food groups and the Kid’s Healthy Eating Pl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ur de Health game</a:t>
            </a: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grpSp>
        <p:nvGrpSpPr>
          <p:cNvPr id="56" name="Group 6"/>
          <p:cNvGrpSpPr/>
          <p:nvPr/>
        </p:nvGrpSpPr>
        <p:grpSpPr>
          <a:xfrm>
            <a:off x="138240" y="5541840"/>
            <a:ext cx="8813520" cy="1202040"/>
            <a:chOff x="138240" y="5541840"/>
            <a:chExt cx="8813520" cy="1202040"/>
          </a:xfrm>
        </p:grpSpPr>
        <p:pic>
          <p:nvPicPr>
            <p:cNvPr id="57" name="Picture 8" descr="C:\Users\boo847\Desktop\icon8-sleep.jpg"/>
            <p:cNvPicPr/>
            <p:nvPr/>
          </p:nvPicPr>
          <p:blipFill>
            <a:blip r:embed="rId1"/>
            <a:stretch/>
          </p:blipFill>
          <p:spPr>
            <a:xfrm>
              <a:off x="7940520" y="5722560"/>
              <a:ext cx="1011240" cy="1021320"/>
            </a:xfrm>
            <a:prstGeom prst="rect">
              <a:avLst/>
            </a:prstGeom>
            <a:ln w="0">
              <a:noFill/>
            </a:ln>
          </p:spPr>
        </p:pic>
        <p:grpSp>
          <p:nvGrpSpPr>
            <p:cNvPr id="58" name="Group 8"/>
            <p:cNvGrpSpPr/>
            <p:nvPr/>
          </p:nvGrpSpPr>
          <p:grpSpPr>
            <a:xfrm>
              <a:off x="138240" y="5541840"/>
              <a:ext cx="7802280" cy="1202040"/>
              <a:chOff x="138240" y="5541840"/>
              <a:chExt cx="7802280" cy="1202040"/>
            </a:xfrm>
          </p:grpSpPr>
          <p:pic>
            <p:nvPicPr>
              <p:cNvPr id="59" name="Picture 6" descr="C:\Users\boo847\Desktop\icon2-fruitsveggies.jpg"/>
              <p:cNvPicPr/>
              <p:nvPr/>
            </p:nvPicPr>
            <p:blipFill>
              <a:blip r:embed="rId2"/>
              <a:stretch/>
            </p:blipFill>
            <p:spPr>
              <a:xfrm>
                <a:off x="1201680" y="5560560"/>
                <a:ext cx="1126800" cy="1116360"/>
              </a:xfrm>
              <a:prstGeom prst="rect">
                <a:avLst/>
              </a:prstGeom>
              <a:ln w="0">
                <a:noFill/>
              </a:ln>
            </p:spPr>
          </p:pic>
          <p:pic>
            <p:nvPicPr>
              <p:cNvPr id="60" name="Picture 7" descr="C:\Users\boo847\Desktop\icon5-breakfast.jpg"/>
              <p:cNvPicPr/>
              <p:nvPr/>
            </p:nvPicPr>
            <p:blipFill>
              <a:blip r:embed="rId3"/>
              <a:stretch/>
            </p:blipFill>
            <p:spPr>
              <a:xfrm>
                <a:off x="4529160" y="5630760"/>
                <a:ext cx="958680" cy="1087920"/>
              </a:xfrm>
              <a:prstGeom prst="rect">
                <a:avLst/>
              </a:prstGeom>
              <a:ln w="0">
                <a:noFill/>
              </a:ln>
            </p:spPr>
          </p:pic>
          <p:pic>
            <p:nvPicPr>
              <p:cNvPr id="61"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62" name="Picture 10" descr="C:\Users\boo847\Desktop\icon6-keepmoving.jpg"/>
              <p:cNvPicPr/>
              <p:nvPr/>
            </p:nvPicPr>
            <p:blipFill>
              <a:blip r:embed="rId5"/>
              <a:stretch/>
            </p:blipFill>
            <p:spPr>
              <a:xfrm>
                <a:off x="5618160" y="5630760"/>
                <a:ext cx="941040" cy="1097280"/>
              </a:xfrm>
              <a:prstGeom prst="rect">
                <a:avLst/>
              </a:prstGeom>
              <a:ln w="0">
                <a:noFill/>
              </a:ln>
            </p:spPr>
          </p:pic>
          <p:pic>
            <p:nvPicPr>
              <p:cNvPr id="63" name="Picture 11" descr="C:\Users\boo847\Desktop\icon4-fat.jpg"/>
              <p:cNvPicPr/>
              <p:nvPr/>
            </p:nvPicPr>
            <p:blipFill>
              <a:blip r:embed="rId6"/>
              <a:stretch/>
            </p:blipFill>
            <p:spPr>
              <a:xfrm>
                <a:off x="3454200" y="5603760"/>
                <a:ext cx="1009440" cy="1033920"/>
              </a:xfrm>
              <a:prstGeom prst="rect">
                <a:avLst/>
              </a:prstGeom>
              <a:ln w="0">
                <a:noFill/>
              </a:ln>
            </p:spPr>
          </p:pic>
          <p:pic>
            <p:nvPicPr>
              <p:cNvPr id="64" name="Picture 12" descr="C:\Users\boo847\Desktop\icon3-grains.jpg"/>
              <p:cNvPicPr/>
              <p:nvPr/>
            </p:nvPicPr>
            <p:blipFill>
              <a:blip r:embed="rId7"/>
              <a:stretch/>
            </p:blipFill>
            <p:spPr>
              <a:xfrm>
                <a:off x="2328840" y="5584680"/>
                <a:ext cx="1090440" cy="1072080"/>
              </a:xfrm>
              <a:prstGeom prst="rect">
                <a:avLst/>
              </a:prstGeom>
              <a:ln w="0">
                <a:noFill/>
              </a:ln>
            </p:spPr>
          </p:pic>
          <p:pic>
            <p:nvPicPr>
              <p:cNvPr id="65" name="Picture 13" descr="C:\Users\boo847\Desktop\icon1-water.jpg"/>
              <p:cNvPicPr/>
              <p:nvPr/>
            </p:nvPicPr>
            <p:blipFill>
              <a:blip r:embed="rId8"/>
              <a:stretch/>
            </p:blipFill>
            <p:spPr>
              <a:xfrm>
                <a:off x="138240" y="5605200"/>
                <a:ext cx="1036440" cy="1138680"/>
              </a:xfrm>
              <a:prstGeom prst="rect">
                <a:avLst/>
              </a:prstGeom>
              <a:ln w="0">
                <a:noFill/>
              </a:ln>
            </p:spPr>
          </p:pic>
        </p:grpSp>
      </p:grpSp>
      <p:sp>
        <p:nvSpPr>
          <p:cNvPr id="66" name="Rectangle 4"/>
          <p:cNvSpPr/>
          <p:nvPr/>
        </p:nvSpPr>
        <p:spPr>
          <a:xfrm>
            <a:off x="22392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 Promotion Through Healthy Eating and Active Living</a:t>
            </a:r>
            <a:endParaRPr b="1" lang="en-US" sz="3600" spc="-1" strike="noStrike">
              <a:solidFill>
                <a:srgbClr val="3ea44f"/>
              </a:solidFill>
              <a:latin typeface="Arial"/>
            </a:endParaRPr>
          </a:p>
        </p:txBody>
      </p:sp>
      <p:sp>
        <p:nvSpPr>
          <p:cNvPr id="68" name=""/>
          <p:cNvSpPr txBox="1"/>
          <p:nvPr/>
        </p:nvSpPr>
        <p:spPr>
          <a:xfrm>
            <a:off x="571680" y="21844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choices can affect our health positively or negative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r challenge is to provide nutritious and tasty foods to students so they can make healthy food cho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r obligation is to offer the best food cho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56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Nutrition Tools for Consumers</a:t>
            </a:r>
            <a:endParaRPr b="1" lang="en-US" sz="3600" spc="-1" strike="noStrike">
              <a:solidFill>
                <a:srgbClr val="3ea44f"/>
              </a:solidFill>
              <a:latin typeface="Arial"/>
            </a:endParaRPr>
          </a:p>
        </p:txBody>
      </p:sp>
      <p:sp>
        <p:nvSpPr>
          <p:cNvPr id="70" name=""/>
          <p:cNvSpPr txBox="1"/>
          <p:nvPr/>
        </p:nvSpPr>
        <p:spPr>
          <a:xfrm>
            <a:off x="774720" y="1549440"/>
            <a:ext cx="7670880" cy="431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etary Guidelines for American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tion and physical activity advice for healthy Americans aged 2 and 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s for school meals and National School Lunch Progra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 Facts </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lab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nutrition information on individual foods</a:t>
            </a:r>
            <a:endParaRPr b="0" lang="en-US" sz="24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Five Basic Food Groups</a:t>
            </a:r>
            <a:endParaRPr b="1" lang="en-US" sz="3600" spc="-1" strike="noStrike">
              <a:solidFill>
                <a:srgbClr val="3ea44f"/>
              </a:solidFill>
              <a:latin typeface="Arial"/>
            </a:endParaRPr>
          </a:p>
        </p:txBody>
      </p:sp>
      <p:sp>
        <p:nvSpPr>
          <p:cNvPr id="72"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ry</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P:\Kid'sHealthyEatingPlateFinal\KidsHealthyEatingPlate.jpg"/>
          <p:cNvPicPr/>
          <p:nvPr/>
        </p:nvPicPr>
        <p:blipFill>
          <a:blip r:embed="rId1"/>
          <a:srcRect l="0" t="2430" r="0" b="0"/>
          <a:stretch/>
        </p:blipFill>
        <p:spPr>
          <a:xfrm>
            <a:off x="1008000" y="358920"/>
            <a:ext cx="6697800" cy="5884560"/>
          </a:xfrm>
          <a:prstGeom prst="rect">
            <a:avLst/>
          </a:prstGeom>
          <a:ln w="0">
            <a:noFill/>
          </a:ln>
        </p:spPr>
      </p:pic>
      <p:sp>
        <p:nvSpPr>
          <p:cNvPr id="74" name="Text Box 4"/>
          <p:cNvSpPr/>
          <p:nvPr/>
        </p:nvSpPr>
        <p:spPr>
          <a:xfrm>
            <a:off x="239760" y="5992920"/>
            <a:ext cx="875988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5, Harvard T.H. Chan School of Public Health. For more information about The Kid’s Healthy Eating Plate, please see The Nutrition Source, Department of Nutrition, Harvard T.H. Chan School of Public Health,</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hsph.harvard.edu/nutritionsource/kids-healthy-eating-plate</a:t>
            </a:r>
            <a:endParaRPr b="0" lang="en-US" sz="12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Colorful Fruits and Vegetables Instead of Junk Food</a:t>
            </a:r>
            <a:endParaRPr b="1" lang="en-US" sz="3600" spc="-1" strike="noStrike">
              <a:solidFill>
                <a:srgbClr val="3ea44f"/>
              </a:solidFill>
              <a:latin typeface="Arial"/>
            </a:endParaRPr>
          </a:p>
        </p:txBody>
      </p:sp>
      <p:sp>
        <p:nvSpPr>
          <p:cNvPr id="76" name=""/>
          <p:cNvSpPr txBox="1"/>
          <p:nvPr/>
        </p:nvSpPr>
        <p:spPr>
          <a:xfrm>
            <a:off x="571680" y="21844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 and vegetables provide vitamins, minerals, and carbohyd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ruits and vegetables in a rainbow of colors (choose especially dark-green and orange 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5 or more servings each day can reduce the risk of diabetes, heart disease, obesity, and possibly some cancers. </a:t>
            </a:r>
            <a:endParaRPr b="1" lang="en-US" sz="2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Fruits</a:t>
            </a:r>
            <a:endParaRPr b="1" lang="en-US" sz="3600" spc="-1" strike="noStrike">
              <a:solidFill>
                <a:srgbClr val="3ea44f"/>
              </a:solidFill>
              <a:latin typeface="Arial"/>
            </a:endParaRPr>
          </a:p>
        </p:txBody>
      </p:sp>
      <p:sp>
        <p:nvSpPr>
          <p:cNvPr id="78" name=""/>
          <p:cNvSpPr txBox="1"/>
          <p:nvPr/>
        </p:nvSpPr>
        <p:spPr>
          <a:xfrm>
            <a:off x="571680" y="170604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source of vitamins A and C and potassium.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and sliced fruits have more fiber than juice and are better cho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serving = 1 medium apple, banana, or orange; 1/2 cup chopped or cooked fruit; 1/4 cup of dried fruit, like raisins.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 fruit juice to no more than 4-6 ounces per day.</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19:20:22Z</cp:lastPrinted>
  <dcterms:modified xsi:type="dcterms:W3CDTF">2015-11-19T16:43:32Z</dcterms:modified>
  <cp:revision>145</cp:revision>
  <dc:subject/>
  <dc:title>chapter ??</dc:title>
</cp:coreProperties>
</file>