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3D98-39A2-4933-A6D0-768413500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1D1B3C-2ECB-44A1-980D-A7C4B18B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ve participants form eight groups—one group for each of the eight </a:t>
            </a:r>
            <a:r>
              <a:rPr b="0" lang="en-US" sz="1200" spc="-1" strike="noStrike">
                <a:solidFill>
                  <a:srgbClr val="000000"/>
                </a:solidFill>
                <a:latin typeface="Times New Roman"/>
              </a:rPr>
              <a:t>Eat Well &amp; Keep Moving</a:t>
            </a:r>
            <a:r>
              <a:rPr b="0" i="1" lang="en-US" sz="1200" spc="-1" strike="noStrike">
                <a:solidFill>
                  <a:srgbClr val="000000"/>
                </a:solidFill>
                <a:latin typeface="Times New Roman"/>
              </a:rPr>
              <a:t> Principles of Healthy Living. There should be at least 4 or 5 people in each group. If necessary, greater than or less than eight groups is fine, as long as the activities are adjusted accordingl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each participant a copy of this presentation, obtained by printing the PDF version of these slides from the Training 2 folder on this Web Resource.</a:t>
            </a:r>
            <a:r>
              <a:rPr b="1" i="1" lang="en-US" sz="1200" spc="-1" strike="noStrike">
                <a:solidFill>
                  <a:srgbClr val="000000"/>
                </a:solidFill>
                <a:latin typeface="Times New Roman"/>
              </a:rPr>
              <a:t> </a:t>
            </a:r>
            <a:r>
              <a:rPr b="0" i="1" lang="en-US" sz="1200" spc="-1" strike="noStrike">
                <a:solidFill>
                  <a:srgbClr val="000000"/>
                </a:solidFill>
                <a:latin typeface="Times New Roman"/>
              </a:rPr>
              <a:t>Also, give participants a copy of the Principles of Healthy Living and Teacher Background on the Principles of Healthy Living, both found in the Additional Resources folder on this Web Resour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back from break. This session centers on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inciples of Healthy Living, the guidelines for healthy eating and physical activity that form the core of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These guidelines build on the latest diet and activity recommendations of the </a:t>
            </a:r>
            <a:r>
              <a:rPr b="0" i="1" lang="en-US" sz="1200" spc="-1" strike="noStrike">
                <a:solidFill>
                  <a:srgbClr val="000000"/>
                </a:solidFill>
                <a:latin typeface="Times New Roman"/>
              </a:rPr>
              <a:t>Dietary Guidelines for Americans 2015.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ssion, we will review the five food groups, the Kid’s Healthy Eating Plate, the healthiest choices in each group, and the Nutrition Facts food label. Together, these education tools provide the important nutrition information upon which 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lessons are based. </a:t>
            </a:r>
            <a:r>
              <a:rPr b="0" i="1" lang="en-US" sz="1200" spc="-1" strike="noStrike">
                <a:solidFill>
                  <a:srgbClr val="000000"/>
                </a:solidFill>
                <a:latin typeface="Times New Roman"/>
              </a:rPr>
              <a:t>(The Kid’s Healthy Eating Plate can be found in the Additional Resources folder on this Web Resour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A31C-DFE5-4DFB-96CA-B4AA5C45E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ncreasing activity, you should reduce sedentary pastimes, such as television viewing. The more television you watch, the less time you have to engage in physical activity or other healthy pursuits; the same goes for spending time online, text messaging, and playing video games. More media means seeing more ads for unhealthy foods, and evidence suggests that this leads to eating extra calories. Such sedentary behavior combined with poor diet can lead to excess weight 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limit TV time to 1 to 2 hours per day. Limit total recreational screen time, including watching television, playing computer games, watching movies, and spending time online, to no more than 2 hours each da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DFA0-CBD8-409E-9534-4ACD5351D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een, eating a nutritious and balanced diet and participating in regular physical activity are the cornerstones of a healthy lifestyle. Eating the right foods provides us with the energy and nutrients our bodies need to stay healthy and fight infection and disease. Similarly, regular physical activity helps prevent heart disease, diabetes, some cancers, osteoporosis, and a host of other disorders. What we eat and how much activity we get not only affect how our bodies perform and feel today but also affect our health for the next 10, 20, and 30 years and beyo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has developed eight Principles of Healthy Living. Informed by the latest scientific research and the </a:t>
            </a:r>
            <a:r>
              <a:rPr b="0" i="1" lang="en-US" sz="1200" spc="-1" strike="noStrike">
                <a:solidFill>
                  <a:srgbClr val="000000"/>
                </a:solidFill>
                <a:latin typeface="Times New Roman"/>
              </a:rPr>
              <a:t>Dietary Guidelines for Americans 2015, </a:t>
            </a:r>
            <a:r>
              <a:rPr b="0" lang="en-US" sz="1200" spc="-1" strike="noStrike">
                <a:solidFill>
                  <a:srgbClr val="000000"/>
                </a:solidFill>
                <a:latin typeface="Times New Roman"/>
              </a:rPr>
              <a:t>these guidelines can help you eat well and keep you moving toward a lifetime of healthy liv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principles from the slide. For each, read the accompanying student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the switch from sugary drinks to w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Drink w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oose colorful fruits and vegetables instead of junk foo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Choose fruits and vegetables instead of junk food—go for col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oose whole-grain foods and limit foods with added sug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Get whole grains and sack the sug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oose foods with healthy fat, limit foods high in saturated fat, and avoid foods with trans f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Keep the fat health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at a nutritious breakfast every mor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Start smart with breakfa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Be physically active every day for at least an ho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Keep mov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Limit TV and other recreational screen time to 2 hours or less per d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Freeze the scre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Get enough sleep to give the brain and body the rest they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Sleep we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984E-A8BE-4DE9-AEE2-29E246BF0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erson at each table whose birthday is closest to today to stand. Give the standing people a favor, if desired. Ask them to be their group’s leader and to pick a person from their group to record their group’s discussion during the nex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each of the eight groups one of the guidelines from the Principles of Healthy Living. Give the group members 10 minutes to discuss their guideline among themselves. Have them discuss why this guideline is important. The group recorder will write down the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10 minutes, ask the groups to report. Begin with the first guideline: Make the switch from sugary drinks to water. Use the next eight slides to complete any unanswered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7376-DF1E-4A8E-88C4-6F84173C6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is additional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he best way to hydrate our bodies. It is calorie and sugar-free, it tastes clean and fresh, and is just about cost-free when taken from the t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417D-AECB-4B2D-8251-67E1C9D80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is additional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s and vegetables provide healthy carbohydrate that gives us energ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6ABE-C403-416B-B9FD-B3B959B12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ined grains are fortified with vitamins and minerals, but fortification does not replace all of the nutrients lost during the refining proces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d grains get absorbed by the body very quickly, which can cause blood sugar levels to spike. In response, the body quickly takes up sugar from the blood to bring sugar levels down to normal. Working so quickly may cause the body to overshoot things however, making blood sugar levels a bit lower than they should be. This can cause feelings of false hunger (even after a big meal) and tiredne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D681-88A7-472A-965E-4311722E5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based foods, including plant oils (such as olive, canola, soybean, corn, sunflower, and peanut oils), nuts, and seeds, are natural sources of healthy fat, as are fish and shellfish.</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s that are high in saturated fat come from animals, including dairy fat, the fat in meat, and lard. However, even a few healthy plant-based foods and fish contain small amounts of saturated fat, so we can’t completely eliminate it from our diet.</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recognizes the importance of reducing saturated fat intake and sets a daily limit of 10% of total daily calories from saturated fat. The American Heart Association recommends an even lower limit for saturated fat—less than 7% of total daily calorie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 fat is formed when healthy vegetable oils are partially hydrogenated (a process that makes the oil solid or semisolid and makes the fat more stable for use in packaged foods). This is the worst type of fat because it raises the risk of heart disease in a number of different ways, and it may possibly raise the risk of diabetes. Foods with trans fat and partially hydrogenated oils* should be avo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at at the time of publication, the FDA banned the use of partially hydrogenated oils in food products, giving manufacturers three years to comply with the decision. This messaging on avoiding trans fat from partially hydrogenated oils remains important guidance during the transitional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7898-9FC3-4AF5-ACC3-18D5EA10A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is additional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fast is also a great time to get started toward the daily goal of consuming 5 or more servings of colorful fruits and vegetab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DEED-4B5D-41FB-A2EF-6E974D03C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hysical activity can also benefit emotional well-being.</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nd teenagers should get at least 60 minutes of physical activity every day, which can be broken up into multiple sessions throughout the day. This can include active free play, as well as structured activities that are age-appropriate, enjoyable, and offer variety. Any episode of moderate- or vigorous-intensity physical activity, however brief, counts toward the daily goal.</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ults, increasing the intensity or the duration of physical activity can have even greater health benefits and may be needed to control body weight. About 60 minutes per day may be needed to prevent weight gai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ult recommendation adapted from U.S. Department of Agriculture and Department of Health and Human Services, </a:t>
            </a:r>
            <a:r>
              <a:rPr b="0" lang="en-US" sz="1200" spc="-1" strike="noStrike">
                <a:solidFill>
                  <a:srgbClr val="000000"/>
                </a:solidFill>
                <a:latin typeface="Times New Roman"/>
              </a:rPr>
              <a:t>Finding Your Way to a Healthier You: Based on the Dietary Guidelines for Americans 2005 </a:t>
            </a:r>
            <a:r>
              <a:rPr b="0" i="1" lang="en-US" sz="1200" spc="-1" strike="noStrike">
                <a:solidFill>
                  <a:srgbClr val="000000"/>
                </a:solidFill>
                <a:latin typeface="Times New Roman"/>
              </a:rPr>
              <a:t>and the </a:t>
            </a:r>
            <a:r>
              <a:rPr b="0" lang="en-US" sz="1200" spc="-1" strike="noStrike">
                <a:solidFill>
                  <a:srgbClr val="000000"/>
                </a:solidFill>
                <a:latin typeface="Times New Roman"/>
              </a:rPr>
              <a:t>Dietary Guidelines for Americans 2005.</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5C95-38D3-4BB1-ABED-6FACDC8A2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elevision you watch, the less time you have to engage in physical activity or other healthy pursuits; the same goes for spending time online on your computer or smartphone for fun, text messaging, and playing video game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 more television means watching more ads for unhealthy foods, and evidence suggests that this leads to consuming more calories. Such sedentary behavior combined with poor diet can lead to unhealthy weight gain.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otal recreational screen time to no more than 2 hours each day, whether it be a TV, computer, smartphone, or other handheld device—anything with a screen cou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67F5-FEEF-4DBF-852A-60FFE9D6A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individuals with different genetic, environmental, behavioral, and cultural backgrounds that can affect our health. But we must recognize that when it comes to health promotion and disease prevention, food choices and physical activity choices can also affect our healt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F84B-856A-4F37-B213-50C174BCC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on’t get enough sleep have a harder time paying attention in school, and lack of sleep is linked to unhealthy weight gain.</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ges 6 to 12 should be getting at least 10 hours of sleep each da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set up a regular bedtime routine and provide a bedroom without a TV, and with smartphones and other screens turned off.</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A674-61EC-45EE-8D2B-243155E76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10-minute break. The next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ession will discuss the healthiest food choices from the five food groups, the Kid’s Healthy Eating Plate, and the Nutrition Facts food lab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FF9D-B7C4-46AD-9BC4-EEE82FCFE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slide heading and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risk factors for chronic diseases, such as obesity, diabetes, high blood pressure, and high blood cholesterol, can be reduced by eating a healthful diet and participating in regular physical activity. It is especially important to instill good eating and physical activity habits in children, as these habits will carry on through their adult life and lower their risk of developing serious, chronic diseas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CCBA-69A9-461D-B8E2-AC606F2E5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some nutrition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 protein, and fat are the food components that provide the body with energy, which is measured in calories.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oods rich in healthy carbohydrate are whole-grain bread, whole-grain cereal, brown rice, fruits, and some vegetables; examples of foods that contain less healthy carbohydrate are drinks and foods with added sugar, such as soft drinks, and foods that contain refined grains, such as white bread and white rice.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ealthy sources of protein are nuts, seeds, beans, eggs, poultry, and fish.</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ealthy fat are olive oil, canola oil, and vegetable oil; examples of unhealthy fat are butter, hard stick margarine, shortening, and l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 and protein provide 4 calories per gram. Fat provides 9 calories per gram. Alcohol, which is not a nutrient, provides energy as well, at the rate of 7 calories per 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3B53-7F44-4B8F-9824-BA11C16D3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 protein, fat, vitamins, minerals, and water are nutrients. The human body uses these nutrients in their smallest forms—carbohydrate as glucose, protein as amino acids, and fat as fatty acids. Some nutrients are called </a:t>
            </a:r>
            <a:r>
              <a:rPr b="0" i="1" lang="en-US" sz="1200" spc="-1" strike="noStrike">
                <a:solidFill>
                  <a:srgbClr val="000000"/>
                </a:solidFill>
                <a:latin typeface="Times New Roman"/>
              </a:rPr>
              <a:t>essential nutrients,</a:t>
            </a:r>
            <a:r>
              <a:rPr b="0" lang="en-US" sz="1200" spc="-1" strike="noStrike">
                <a:solidFill>
                  <a:srgbClr val="000000"/>
                </a:solidFill>
                <a:latin typeface="Times New Roman"/>
              </a:rPr>
              <a:t> as they cannot be produced by the body and must be acquired by eating a f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14D9-5E5F-43ED-9C6B-96801CEA2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nd essential nutrient, water is required for the millions of biological reactions our bodies go through each day. We can get water from beverages and from many foods such as fruit and soup. Water is the best choice to quench your thirs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8386-514C-42D6-867F-ED0384335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Department of Agriculture (USDA), Department of Health and Human Services, and Food and Drug Administration (FDA) have taken the massive amounts of nutrient data, current research, and consumer studies and developed tools for consumers to use in making nutritious food choices. These tools require very little math to calculate the nutrient values in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a:t>
            </a:r>
            <a:r>
              <a:rPr b="0" lang="en-US" sz="1200" spc="-1" strike="noStrike">
                <a:solidFill>
                  <a:srgbClr val="000000"/>
                </a:solidFill>
                <a:latin typeface="Times New Roman"/>
              </a:rPr>
              <a:t> provides basic guidance for individuals seeking a healthy lifestyle. These guidelines provide nutrition and physical activity advice for healthy Americans over the age of 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trition Facts food label was developed to provide nutrition information on individual foods. We will discuss the Nutrition Facts food label in the next session of this worksh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66C7-440E-4148-9092-B235ED805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offering guidance on healthy eating for Americans aged 2 and up, the </a:t>
            </a:r>
            <a:r>
              <a:rPr b="0" i="1" lang="en-US" sz="1200" spc="-1" strike="noStrike">
                <a:solidFill>
                  <a:srgbClr val="000000"/>
                </a:solidFill>
                <a:latin typeface="Times New Roman"/>
              </a:rPr>
              <a:t>Dietary Guidelines for Americans</a:t>
            </a:r>
            <a:r>
              <a:rPr b="0" lang="en-US" sz="1200" spc="-1" strike="noStrike">
                <a:solidFill>
                  <a:srgbClr val="000000"/>
                </a:solidFill>
                <a:latin typeface="Times New Roman"/>
              </a:rPr>
              <a:t> serve as the basis of school meal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is to help us make healthy food choices. The guidelines apply primarily to diets consumed over several days or over the course of the week; they are not about individual foods or single mea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04DC-4FE1-4905-B933-F4195C591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also addresses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w-activity or inactive lifestyle is unhealthy. Increasing activity burns more calories. Burning more calories helps us maintain our health and makes room for a more balanced and nutritious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U.S. Surgeon General, regular physical activity improves your chances of living longer and living healthier; helps protect you from developing heart disease or its precursors high blood pressure and high unhealthy blood cholesterol; helps protect you from developing certain cancers, including colon and breast cancer; helps prevent or control type 2 diabetes; helps prevent arthritis and may help relieve pain and stiffness in people who have arthritis; helps prevent osteoporosis; reduces the risk of falling among older adults; relieves symptoms of depression and anxiety and improves mood; and controls we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406600"/>
            <a:ext cx="8756640" cy="3089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ea44f"/>
                </a:solidFill>
                <a:latin typeface="Arial"/>
              </a:rPr>
              <a:t>Eat Well &amp; Keep Moving </a:t>
            </a:r>
            <a:r>
              <a:rPr b="1" lang="en-US" sz="7200" spc="-1" strike="noStrike">
                <a:solidFill>
                  <a:srgbClr val="3ea44f"/>
                </a:solidFill>
                <a:latin typeface="Arial"/>
              </a:rPr>
              <a:t>Principles of Healthy Living</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Session</a:t>
            </a:r>
            <a:r>
              <a:rPr b="1" lang="en-US" sz="6800" spc="-1" strike="noStrike">
                <a:solidFill>
                  <a:srgbClr val="fbefb3"/>
                </a:solidFill>
                <a:latin typeface="Arial"/>
              </a:rPr>
              <a:t>3</a:t>
            </a:r>
            <a:endParaRPr b="0" lang="en-US" sz="6800" spc="-1" strike="noStrike">
              <a:solidFill>
                <a:srgbClr val="000000"/>
              </a:solidFill>
              <a:latin typeface="Times New Roman"/>
            </a:endParaRPr>
          </a:p>
        </p:txBody>
      </p:sp>
      <p:sp>
        <p:nvSpPr>
          <p:cNvPr id="51" name="Rectangle 4"/>
          <p:cNvSpPr/>
          <p:nvPr/>
        </p:nvSpPr>
        <p:spPr>
          <a:xfrm>
            <a:off x="0" y="568800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1"/>
          <p:cNvSpPr/>
          <p:nvPr/>
        </p:nvSpPr>
        <p:spPr>
          <a:xfrm>
            <a:off x="0" y="637056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369720" y="461880"/>
            <a:ext cx="8375760" cy="58975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grpSp>
        <p:nvGrpSpPr>
          <p:cNvPr id="72" name="Group 6"/>
          <p:cNvGrpSpPr/>
          <p:nvPr/>
        </p:nvGrpSpPr>
        <p:grpSpPr>
          <a:xfrm>
            <a:off x="138240" y="5541840"/>
            <a:ext cx="8813520" cy="1202040"/>
            <a:chOff x="138240" y="5541840"/>
            <a:chExt cx="8813520" cy="1202040"/>
          </a:xfrm>
        </p:grpSpPr>
        <p:pic>
          <p:nvPicPr>
            <p:cNvPr id="73" name="Picture 8" descr="C:\Users\boo847\Desktop\icon8-sleep.jpg"/>
            <p:cNvPicPr/>
            <p:nvPr/>
          </p:nvPicPr>
          <p:blipFill>
            <a:blip r:embed="rId1"/>
            <a:stretch/>
          </p:blipFill>
          <p:spPr>
            <a:xfrm>
              <a:off x="7940520" y="5722560"/>
              <a:ext cx="1011240" cy="1021320"/>
            </a:xfrm>
            <a:prstGeom prst="rect">
              <a:avLst/>
            </a:prstGeom>
            <a:ln w="0">
              <a:noFill/>
            </a:ln>
          </p:spPr>
        </p:pic>
        <p:grpSp>
          <p:nvGrpSpPr>
            <p:cNvPr id="74" name="Group 8"/>
            <p:cNvGrpSpPr/>
            <p:nvPr/>
          </p:nvGrpSpPr>
          <p:grpSpPr>
            <a:xfrm>
              <a:off x="138240" y="5541840"/>
              <a:ext cx="7802280" cy="1202040"/>
              <a:chOff x="138240" y="5541840"/>
              <a:chExt cx="7802280" cy="1202040"/>
            </a:xfrm>
          </p:grpSpPr>
          <p:pic>
            <p:nvPicPr>
              <p:cNvPr id="75" name="Picture 6" descr="C:\Users\boo847\Desktop\icon2-fruitsveggies.jpg"/>
              <p:cNvPicPr/>
              <p:nvPr/>
            </p:nvPicPr>
            <p:blipFill>
              <a:blip r:embed="rId2"/>
              <a:stretch/>
            </p:blipFill>
            <p:spPr>
              <a:xfrm>
                <a:off x="1201680" y="5560560"/>
                <a:ext cx="1126800" cy="1116360"/>
              </a:xfrm>
              <a:prstGeom prst="rect">
                <a:avLst/>
              </a:prstGeom>
              <a:ln w="0">
                <a:noFill/>
              </a:ln>
            </p:spPr>
          </p:pic>
          <p:pic>
            <p:nvPicPr>
              <p:cNvPr id="76" name="Picture 7" descr="C:\Users\boo847\Desktop\icon5-breakfast.jpg"/>
              <p:cNvPicPr/>
              <p:nvPr/>
            </p:nvPicPr>
            <p:blipFill>
              <a:blip r:embed="rId3"/>
              <a:stretch/>
            </p:blipFill>
            <p:spPr>
              <a:xfrm>
                <a:off x="4529160" y="5630760"/>
                <a:ext cx="958680" cy="1087920"/>
              </a:xfrm>
              <a:prstGeom prst="rect">
                <a:avLst/>
              </a:prstGeom>
              <a:ln w="0">
                <a:noFill/>
              </a:ln>
            </p:spPr>
          </p:pic>
          <p:pic>
            <p:nvPicPr>
              <p:cNvPr id="77"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78" name="Picture 10" descr="C:\Users\boo847\Desktop\icon6-keepmoving.jpg"/>
              <p:cNvPicPr/>
              <p:nvPr/>
            </p:nvPicPr>
            <p:blipFill>
              <a:blip r:embed="rId5"/>
              <a:stretch/>
            </p:blipFill>
            <p:spPr>
              <a:xfrm>
                <a:off x="5618160" y="5630760"/>
                <a:ext cx="941040" cy="1097280"/>
              </a:xfrm>
              <a:prstGeom prst="rect">
                <a:avLst/>
              </a:prstGeom>
              <a:ln w="0">
                <a:noFill/>
              </a:ln>
            </p:spPr>
          </p:pic>
          <p:pic>
            <p:nvPicPr>
              <p:cNvPr id="79" name="Picture 11" descr="C:\Users\boo847\Desktop\icon4-fat.jpg"/>
              <p:cNvPicPr/>
              <p:nvPr/>
            </p:nvPicPr>
            <p:blipFill>
              <a:blip r:embed="rId6"/>
              <a:stretch/>
            </p:blipFill>
            <p:spPr>
              <a:xfrm>
                <a:off x="3454200" y="5603760"/>
                <a:ext cx="1009440" cy="1033920"/>
              </a:xfrm>
              <a:prstGeom prst="rect">
                <a:avLst/>
              </a:prstGeom>
              <a:ln w="0">
                <a:noFill/>
              </a:ln>
            </p:spPr>
          </p:pic>
          <p:pic>
            <p:nvPicPr>
              <p:cNvPr id="80" name="Picture 12" descr="C:\Users\boo847\Desktop\icon3-grains.jpg"/>
              <p:cNvPicPr/>
              <p:nvPr/>
            </p:nvPicPr>
            <p:blipFill>
              <a:blip r:embed="rId7"/>
              <a:stretch/>
            </p:blipFill>
            <p:spPr>
              <a:xfrm>
                <a:off x="2328840" y="5584680"/>
                <a:ext cx="1090440" cy="1072080"/>
              </a:xfrm>
              <a:prstGeom prst="rect">
                <a:avLst/>
              </a:prstGeom>
              <a:ln w="0">
                <a:noFill/>
              </a:ln>
            </p:spPr>
          </p:pic>
          <p:pic>
            <p:nvPicPr>
              <p:cNvPr id="81" name="Picture 13" descr="C:\Users\boo847\Desktop\icon1-water.jpg"/>
              <p:cNvPicPr/>
              <p:nvPr/>
            </p:nvPicPr>
            <p:blipFill>
              <a:blip r:embed="rId8"/>
              <a:stretch/>
            </p:blipFill>
            <p:spPr>
              <a:xfrm>
                <a:off x="138240" y="5605200"/>
                <a:ext cx="1036440" cy="1138680"/>
              </a:xfrm>
              <a:prstGeom prst="rect">
                <a:avLst/>
              </a:prstGeom>
              <a:ln w="0">
                <a:noFill/>
              </a:ln>
            </p:spPr>
          </p:pic>
        </p:grpSp>
      </p:grpSp>
      <p:sp>
        <p:nvSpPr>
          <p:cNvPr id="82" name="Rectangle 4"/>
          <p:cNvSpPr/>
          <p:nvPr/>
        </p:nvSpPr>
        <p:spPr>
          <a:xfrm>
            <a:off x="22392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795240" y="2274840"/>
            <a:ext cx="74948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a44f"/>
                </a:solidFill>
                <a:latin typeface="Arial"/>
              </a:rPr>
              <a:t>Group Discussion on the Principles of Healthy Living</a:t>
            </a:r>
            <a:endParaRPr b="0" lang="en-US" sz="44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743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ake the Switch From Sugary Drinks to Water</a:t>
            </a:r>
            <a:endParaRPr b="1" lang="en-US" sz="3600" spc="-1" strike="noStrike">
              <a:solidFill>
                <a:srgbClr val="3ea44f"/>
              </a:solidFill>
              <a:latin typeface="Arial"/>
            </a:endParaRPr>
          </a:p>
        </p:txBody>
      </p:sp>
      <p:sp>
        <p:nvSpPr>
          <p:cNvPr id="85" name=""/>
          <p:cNvSpPr txBox="1"/>
          <p:nvPr/>
        </p:nvSpPr>
        <p:spPr>
          <a:xfrm>
            <a:off x="488520" y="1801800"/>
            <a:ext cx="810900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is essential to human survival, optimal functioning, and healt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y beverages such as soda, sports drinks, energy drinks, and fruit drinks are filled with empty calories, meaning they provide many calories but almost none of the nutrients the body needs to stay </a:t>
            </a:r>
            <a:br>
              <a:rPr sz="2800"/>
            </a:br>
            <a:r>
              <a:rPr b="1" lang="en-US" sz="2800" spc="-1" strike="noStrike">
                <a:solidFill>
                  <a:srgbClr val="000000"/>
                </a:solidFill>
                <a:latin typeface="Arial"/>
              </a:rPr>
              <a:t>healthy and grow strong.</a:t>
            </a:r>
            <a:endParaRPr b="1" lang="en-US" sz="2800" spc="-1" strike="noStrike">
              <a:solidFill>
                <a:srgbClr val="000000"/>
              </a:solidFill>
              <a:latin typeface="Arial"/>
            </a:endParaRPr>
          </a:p>
        </p:txBody>
      </p:sp>
      <p:pic>
        <p:nvPicPr>
          <p:cNvPr id="86" name="Picture 4" descr="C:\Users\boo847\Desktop\icon1-water.jpg"/>
          <p:cNvPicPr/>
          <p:nvPr/>
        </p:nvPicPr>
        <p:blipFill>
          <a:blip r:embed="rId1"/>
          <a:stretch/>
        </p:blipFill>
        <p:spPr>
          <a:xfrm>
            <a:off x="7178760" y="4927680"/>
            <a:ext cx="1562040" cy="17143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347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Colorful Fruits and Vegetables Instead of Junk Food</a:t>
            </a:r>
            <a:endParaRPr b="1" lang="en-US" sz="3600" spc="-1" strike="noStrike">
              <a:solidFill>
                <a:srgbClr val="3ea44f"/>
              </a:solidFill>
              <a:latin typeface="Arial"/>
            </a:endParaRPr>
          </a:p>
        </p:txBody>
      </p:sp>
      <p:sp>
        <p:nvSpPr>
          <p:cNvPr id="88" name=""/>
          <p:cNvSpPr txBox="1"/>
          <p:nvPr/>
        </p:nvSpPr>
        <p:spPr>
          <a:xfrm>
            <a:off x="598320" y="1611360"/>
            <a:ext cx="775368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uits and vegetables are packed with vitamins, minerals, antioxidants, and fib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fruits and vegetables in a rainbow of colors (choose especially dark-green and orange vegetab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ting 5 or more servings each day can reduce the risk of diabetes, heart </a:t>
            </a:r>
            <a:br>
              <a:rPr sz="2800"/>
            </a:br>
            <a:r>
              <a:rPr b="1" lang="en-US" sz="2800" spc="-1" strike="noStrike">
                <a:solidFill>
                  <a:srgbClr val="000000"/>
                </a:solidFill>
                <a:latin typeface="Arial"/>
              </a:rPr>
              <a:t>disease, obesity, and possibly </a:t>
            </a:r>
            <a:br>
              <a:rPr sz="2800"/>
            </a:br>
            <a:r>
              <a:rPr b="1" lang="en-US" sz="2800" spc="-1" strike="noStrike">
                <a:solidFill>
                  <a:srgbClr val="000000"/>
                </a:solidFill>
                <a:latin typeface="Arial"/>
              </a:rPr>
              <a:t>some cancers. </a:t>
            </a:r>
            <a:endParaRPr b="1" lang="en-US" sz="2800" spc="-1" strike="noStrike">
              <a:solidFill>
                <a:srgbClr val="000000"/>
              </a:solidFill>
              <a:latin typeface="Arial"/>
            </a:endParaRPr>
          </a:p>
        </p:txBody>
      </p:sp>
      <p:pic>
        <p:nvPicPr>
          <p:cNvPr id="89" name="Picture 4" descr="C:\Users\boo847\Desktop\icon2-fruitsveggies.jpg"/>
          <p:cNvPicPr/>
          <p:nvPr/>
        </p:nvPicPr>
        <p:blipFill>
          <a:blip r:embed="rId1"/>
          <a:stretch/>
        </p:blipFill>
        <p:spPr>
          <a:xfrm>
            <a:off x="6835680" y="4727520"/>
            <a:ext cx="1893960" cy="18716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C:\Users\boo847\Desktop\icon3-grains.jpg"/>
          <p:cNvPicPr/>
          <p:nvPr/>
        </p:nvPicPr>
        <p:blipFill>
          <a:blip r:embed="rId1"/>
          <a:stretch/>
        </p:blipFill>
        <p:spPr>
          <a:xfrm>
            <a:off x="6605640" y="4619520"/>
            <a:ext cx="2093760" cy="2057400"/>
          </a:xfrm>
          <a:prstGeom prst="rect">
            <a:avLst/>
          </a:prstGeom>
          <a:ln w="0">
            <a:noFill/>
          </a:ln>
        </p:spPr>
      </p:pic>
      <p:sp>
        <p:nvSpPr>
          <p:cNvPr id="91" name="PlaceHolder 1"/>
          <p:cNvSpPr>
            <a:spLocks noGrp="1"/>
          </p:cNvSpPr>
          <p:nvPr>
            <p:ph type="title"/>
          </p:nvPr>
        </p:nvSpPr>
        <p:spPr>
          <a:xfrm>
            <a:off x="290160" y="167760"/>
            <a:ext cx="85345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Whole-Grain Foods and Limit Foods With Added Sugar </a:t>
            </a:r>
            <a:endParaRPr b="1" lang="en-US" sz="3600" spc="-1" strike="noStrike">
              <a:solidFill>
                <a:srgbClr val="3ea44f"/>
              </a:solidFill>
              <a:latin typeface="Arial"/>
            </a:endParaRPr>
          </a:p>
        </p:txBody>
      </p:sp>
      <p:sp>
        <p:nvSpPr>
          <p:cNvPr id="92" name=""/>
          <p:cNvSpPr txBox="1"/>
          <p:nvPr/>
        </p:nvSpPr>
        <p:spPr>
          <a:xfrm>
            <a:off x="585360" y="1422000"/>
            <a:ext cx="8107560" cy="43182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grains contain fiber, vitamins, and minerals; refining strips away these nutrients.</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ined grains get digested and absorbed quickly, which can cause sugar levels in the blood to spike and then drop a bit too low.</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whole grains whenever possible, making sure to check the nutrition </a:t>
            </a:r>
            <a:br>
              <a:rPr sz="2800"/>
            </a:br>
            <a:r>
              <a:rPr b="1" lang="en-US" sz="2800" spc="-1" strike="noStrike">
                <a:solidFill>
                  <a:srgbClr val="000000"/>
                </a:solidFill>
                <a:latin typeface="Arial"/>
              </a:rPr>
              <a:t>facts label and ingredient list for </a:t>
            </a:r>
            <a:br>
              <a:rPr sz="2800"/>
            </a:br>
            <a:r>
              <a:rPr b="1" lang="en-US" sz="2800" spc="-1" strike="noStrike">
                <a:solidFill>
                  <a:srgbClr val="000000"/>
                </a:solidFill>
                <a:latin typeface="Arial"/>
              </a:rPr>
              <a:t>added sugar.</a:t>
            </a:r>
            <a:endParaRPr b="1" lang="en-US" sz="2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C:\Users\boo847\Desktop\icon4-fat.jpg"/>
          <p:cNvPicPr/>
          <p:nvPr/>
        </p:nvPicPr>
        <p:blipFill>
          <a:blip r:embed="rId1"/>
          <a:stretch/>
        </p:blipFill>
        <p:spPr>
          <a:xfrm>
            <a:off x="7074000" y="4940280"/>
            <a:ext cx="1704960" cy="1747800"/>
          </a:xfrm>
          <a:prstGeom prst="rect">
            <a:avLst/>
          </a:prstGeom>
          <a:ln w="0">
            <a:noFill/>
          </a:ln>
        </p:spPr>
      </p:pic>
      <p:sp>
        <p:nvSpPr>
          <p:cNvPr id="94"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Foods With Healthy Fat, Limit Foods High in Saturated Fat, and Avoid Foods With Trans Fat</a:t>
            </a:r>
            <a:endParaRPr b="1" lang="en-US" sz="3600" spc="-1" strike="noStrike">
              <a:solidFill>
                <a:srgbClr val="3ea44f"/>
              </a:solidFill>
              <a:latin typeface="Arial"/>
            </a:endParaRPr>
          </a:p>
        </p:txBody>
      </p:sp>
      <p:sp>
        <p:nvSpPr>
          <p:cNvPr id="95" name=""/>
          <p:cNvSpPr txBox="1"/>
          <p:nvPr/>
        </p:nvSpPr>
        <p:spPr>
          <a:xfrm>
            <a:off x="571680" y="210780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fat can help lower the risk of heart disease and strok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healthy fat—including saturated fat and especially trans fat—increases the risk of heart disease and strok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trans fat, since it raises the risk for heart disease in many ways and may increase the risk for diabetes.</a:t>
            </a:r>
            <a:endParaRPr b="1" lang="en-US" sz="2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C:\Users\boo847\Desktop\icon5-breakfast.jpg"/>
          <p:cNvPicPr/>
          <p:nvPr/>
        </p:nvPicPr>
        <p:blipFill>
          <a:blip r:embed="rId1"/>
          <a:stretch/>
        </p:blipFill>
        <p:spPr>
          <a:xfrm>
            <a:off x="7358040" y="4954680"/>
            <a:ext cx="1508040" cy="1712880"/>
          </a:xfrm>
          <a:prstGeom prst="rect">
            <a:avLst/>
          </a:prstGeom>
          <a:ln w="0">
            <a:noFill/>
          </a:ln>
        </p:spPr>
      </p:pic>
      <p:sp>
        <p:nvSpPr>
          <p:cNvPr id="97" name="PlaceHolder 1"/>
          <p:cNvSpPr>
            <a:spLocks noGrp="1"/>
          </p:cNvSpPr>
          <p:nvPr>
            <p:ph type="title"/>
          </p:nvPr>
        </p:nvSpPr>
        <p:spPr>
          <a:xfrm>
            <a:off x="331920" y="333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at a Nutritious Breakfast</a:t>
            </a:r>
            <a:br>
              <a:rPr sz="3600"/>
            </a:br>
            <a:r>
              <a:rPr b="1" lang="en-US" sz="3600" spc="-1" strike="noStrike">
                <a:solidFill>
                  <a:srgbClr val="3ea44f"/>
                </a:solidFill>
                <a:latin typeface="Arial"/>
              </a:rPr>
              <a:t>Every Morning</a:t>
            </a:r>
            <a:endParaRPr b="1" lang="en-US" sz="3600" spc="-1" strike="noStrike">
              <a:solidFill>
                <a:srgbClr val="3ea44f"/>
              </a:solidFill>
              <a:latin typeface="Arial"/>
            </a:endParaRPr>
          </a:p>
        </p:txBody>
      </p:sp>
      <p:sp>
        <p:nvSpPr>
          <p:cNvPr id="98" name=""/>
          <p:cNvSpPr txBox="1"/>
          <p:nvPr/>
        </p:nvSpPr>
        <p:spPr>
          <a:xfrm>
            <a:off x="571680" y="176796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fast gives the body the energy it needs to perform at school, work, or ho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shown that breakfast can improve learning, and it helps boost overall nutri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common breakfast foods can be rich in whole grains.</a:t>
            </a:r>
            <a:endParaRPr b="1" lang="en-US" sz="2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C:\Users\boo847\Desktop\icon6-keepmoving.jpg"/>
          <p:cNvPicPr/>
          <p:nvPr/>
        </p:nvPicPr>
        <p:blipFill>
          <a:blip r:embed="rId1"/>
          <a:stretch/>
        </p:blipFill>
        <p:spPr>
          <a:xfrm>
            <a:off x="7148520" y="4735440"/>
            <a:ext cx="1722600" cy="2008440"/>
          </a:xfrm>
          <a:prstGeom prst="rect">
            <a:avLst/>
          </a:prstGeom>
          <a:ln w="0">
            <a:noFill/>
          </a:ln>
        </p:spPr>
      </p:pic>
      <p:sp>
        <p:nvSpPr>
          <p:cNvPr id="100" name="PlaceHolder 1"/>
          <p:cNvSpPr>
            <a:spLocks noGrp="1"/>
          </p:cNvSpPr>
          <p:nvPr>
            <p:ph type="title"/>
          </p:nvPr>
        </p:nvSpPr>
        <p:spPr>
          <a:xfrm>
            <a:off x="263160" y="27900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e Physically Active Every Day</a:t>
            </a:r>
            <a:br>
              <a:rPr sz="3600"/>
            </a:br>
            <a:r>
              <a:rPr b="1" lang="en-US" sz="3600" spc="-1" strike="noStrike">
                <a:solidFill>
                  <a:srgbClr val="3ea44f"/>
                </a:solidFill>
                <a:latin typeface="Arial"/>
              </a:rPr>
              <a:t>for at Least an Hour</a:t>
            </a:r>
            <a:endParaRPr b="1" lang="en-US" sz="3600" spc="-1" strike="noStrike">
              <a:solidFill>
                <a:srgbClr val="3ea44f"/>
              </a:solidFill>
              <a:latin typeface="Arial"/>
            </a:endParaRPr>
          </a:p>
        </p:txBody>
      </p:sp>
      <p:sp>
        <p:nvSpPr>
          <p:cNvPr id="101" name=""/>
          <p:cNvSpPr txBox="1"/>
          <p:nvPr/>
        </p:nvSpPr>
        <p:spPr>
          <a:xfrm>
            <a:off x="544680" y="162576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r physical activity helps prevent unhealthy weight gain, obesity, and several chronic disea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and teenagers need at least 60 minutes per da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ults need at least 30 minutes per day; 60 minutes may be needed to prevent </a:t>
            </a:r>
            <a:br>
              <a:rPr sz="2800"/>
            </a:br>
            <a:r>
              <a:rPr b="1" lang="en-US" sz="2800" spc="-1" strike="noStrike">
                <a:solidFill>
                  <a:srgbClr val="000000"/>
                </a:solidFill>
                <a:latin typeface="Arial"/>
              </a:rPr>
              <a:t>weight gain.</a:t>
            </a:r>
            <a:endParaRPr b="1"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C:\Users\boo847\Desktop\icon7-freeze.jpg"/>
          <p:cNvPicPr/>
          <p:nvPr/>
        </p:nvPicPr>
        <p:blipFill>
          <a:blip r:embed="rId1"/>
          <a:stretch/>
        </p:blipFill>
        <p:spPr>
          <a:xfrm>
            <a:off x="7095960" y="4998960"/>
            <a:ext cx="1935360" cy="1751040"/>
          </a:xfrm>
          <a:prstGeom prst="rect">
            <a:avLst/>
          </a:prstGeom>
          <a:ln w="0">
            <a:noFill/>
          </a:ln>
        </p:spPr>
      </p:pic>
      <p:sp>
        <p:nvSpPr>
          <p:cNvPr id="103" name="PlaceHolder 1"/>
          <p:cNvSpPr>
            <a:spLocks noGrp="1"/>
          </p:cNvSpPr>
          <p:nvPr>
            <p:ph type="title"/>
          </p:nvPr>
        </p:nvSpPr>
        <p:spPr>
          <a:xfrm>
            <a:off x="290160" y="647280"/>
            <a:ext cx="85201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Limit TV and Other Recreational Screen Time to 2 Hours </a:t>
            </a:r>
            <a:br>
              <a:rPr sz="3600"/>
            </a:br>
            <a:r>
              <a:rPr b="1" lang="en-US" sz="3600" spc="-1" strike="noStrike">
                <a:solidFill>
                  <a:srgbClr val="3ea44f"/>
                </a:solidFill>
                <a:latin typeface="Arial"/>
              </a:rPr>
              <a:t>or Less per Day</a:t>
            </a:r>
            <a:endParaRPr b="1" lang="en-US" sz="3600" spc="-1" strike="noStrike">
              <a:solidFill>
                <a:srgbClr val="3ea44f"/>
              </a:solidFill>
              <a:latin typeface="Arial"/>
            </a:endParaRPr>
          </a:p>
        </p:txBody>
      </p:sp>
      <p:sp>
        <p:nvSpPr>
          <p:cNvPr id="104" name=""/>
          <p:cNvSpPr txBox="1"/>
          <p:nvPr/>
        </p:nvSpPr>
        <p:spPr>
          <a:xfrm>
            <a:off x="571680" y="2133720"/>
            <a:ext cx="8051760" cy="431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re TV you watch, the less time you have to engage in physical activi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ching more TV means watching more advertisements for unhealthy foods, which can lead to consuming more calori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 total recreational screen time to no more than 2 hours each day, whether it be a TV, computer, smartphone, or other handheld device—</a:t>
            </a:r>
            <a:br>
              <a:rPr sz="2400"/>
            </a:br>
            <a:r>
              <a:rPr b="1" lang="en-US" sz="2400" spc="-1" strike="noStrike">
                <a:solidFill>
                  <a:srgbClr val="000000"/>
                </a:solidFill>
                <a:latin typeface="Arial"/>
              </a:rPr>
              <a:t>anything with a screen counts! </a:t>
            </a:r>
            <a:endParaRPr b="1" lang="en-US" sz="24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12840" y="28191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ea44f"/>
                </a:solidFill>
                <a:latin typeface="Arial"/>
              </a:rPr>
              <a:t>Health Promotion</a:t>
            </a:r>
            <a:br>
              <a:rPr sz="4800"/>
            </a:br>
            <a:r>
              <a:rPr b="1" lang="en-US" sz="4800" spc="-1" strike="noStrike">
                <a:solidFill>
                  <a:srgbClr val="3ea44f"/>
                </a:solidFill>
                <a:latin typeface="Arial"/>
              </a:rPr>
              <a:t>and</a:t>
            </a:r>
            <a:br>
              <a:rPr sz="4800"/>
            </a:br>
            <a:r>
              <a:rPr b="1" lang="en-US" sz="4800" spc="-1" strike="noStrike">
                <a:solidFill>
                  <a:srgbClr val="3ea44f"/>
                </a:solidFill>
                <a:latin typeface="Arial"/>
              </a:rPr>
              <a:t>Disease Prevention</a:t>
            </a:r>
            <a:endParaRPr b="1" lang="en-US" sz="4800" spc="-1" strike="noStrike">
              <a:solidFill>
                <a:srgbClr val="3ea44f"/>
              </a:solidFill>
              <a:latin typeface="Arial"/>
            </a:endParaRPr>
          </a:p>
        </p:txBody>
      </p:sp>
      <p:sp>
        <p:nvSpPr>
          <p:cNvPr id="54" name="Rectangle 5"/>
          <p:cNvSpPr/>
          <p:nvPr/>
        </p:nvSpPr>
        <p:spPr>
          <a:xfrm>
            <a:off x="992160" y="2017800"/>
            <a:ext cx="7158240" cy="279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Users\boo847\Desktop\icon8-sleep.jpg"/>
          <p:cNvPicPr/>
          <p:nvPr/>
        </p:nvPicPr>
        <p:blipFill>
          <a:blip r:embed="rId1"/>
          <a:stretch/>
        </p:blipFill>
        <p:spPr>
          <a:xfrm>
            <a:off x="7205760" y="4919760"/>
            <a:ext cx="1809720" cy="1827000"/>
          </a:xfrm>
          <a:prstGeom prst="rect">
            <a:avLst/>
          </a:prstGeom>
          <a:ln w="0">
            <a:noFill/>
          </a:ln>
        </p:spPr>
      </p:pic>
      <p:sp>
        <p:nvSpPr>
          <p:cNvPr id="106" name="PlaceHolder 1"/>
          <p:cNvSpPr>
            <a:spLocks noGrp="1"/>
          </p:cNvSpPr>
          <p:nvPr>
            <p:ph type="title"/>
          </p:nvPr>
        </p:nvSpPr>
        <p:spPr>
          <a:xfrm>
            <a:off x="290160" y="237600"/>
            <a:ext cx="85201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et Enough Sleep to Give the Brain and Body the Rest They Need</a:t>
            </a:r>
            <a:endParaRPr b="1" lang="en-US" sz="3600" spc="-1" strike="noStrike">
              <a:solidFill>
                <a:srgbClr val="3ea44f"/>
              </a:solidFill>
              <a:latin typeface="Arial"/>
            </a:endParaRPr>
          </a:p>
        </p:txBody>
      </p:sp>
      <p:sp>
        <p:nvSpPr>
          <p:cNvPr id="107" name=""/>
          <p:cNvSpPr txBox="1"/>
          <p:nvPr/>
        </p:nvSpPr>
        <p:spPr>
          <a:xfrm>
            <a:off x="571680" y="1792440"/>
            <a:ext cx="8051760" cy="431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who don’t get enough sleep have a harder time paying attention in school, and lack of sleep is linked to unhealthy weight gai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ages 6 to 12 should be getting at least 10 hours of sleep each da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up a regular bedtime routine and provide a bedroom without a TV, and with smartphones and other screens turned off.</a:t>
            </a:r>
            <a:endParaRPr b="1" lang="en-US" sz="24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616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ful Diets and</a:t>
            </a:r>
            <a:br>
              <a:rPr sz="3600"/>
            </a:br>
            <a:r>
              <a:rPr b="1" lang="en-US" sz="3600" spc="-1" strike="noStrike">
                <a:solidFill>
                  <a:srgbClr val="3ea44f"/>
                </a:solidFill>
                <a:latin typeface="Arial"/>
              </a:rPr>
              <a:t>Positive Food Choices</a:t>
            </a:r>
            <a:endParaRPr b="1" lang="en-US" sz="3600" spc="-1" strike="noStrike">
              <a:solidFill>
                <a:srgbClr val="3ea44f"/>
              </a:solidFill>
              <a:latin typeface="Arial"/>
            </a:endParaRPr>
          </a:p>
        </p:txBody>
      </p:sp>
      <p:sp>
        <p:nvSpPr>
          <p:cNvPr id="56"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 children grow, develop, and do well in schoo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 people work productively and feel their bes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the risk of chronic diseases such as obesity, diabetes, heart disease, stroke, certain cancers, and osteoporosis</a:t>
            </a:r>
            <a:endParaRPr b="1" lang="en-US" sz="2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nergy</a:t>
            </a:r>
            <a:endParaRPr b="1" lang="en-US" sz="3600" spc="-1" strike="noStrike">
              <a:solidFill>
                <a:srgbClr val="3ea44f"/>
              </a:solidFill>
              <a:latin typeface="Arial"/>
            </a:endParaRPr>
          </a:p>
        </p:txBody>
      </p:sp>
      <p:sp>
        <p:nvSpPr>
          <p:cNvPr id="58" name=""/>
          <p:cNvSpPr txBox="1"/>
          <p:nvPr/>
        </p:nvSpPr>
        <p:spPr>
          <a:xfrm>
            <a:off x="571680" y="1790280"/>
            <a:ext cx="8051760" cy="4318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food components provide the body with energy</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hydrate = 4 calories per gra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carbohydrate sources: whole grains, beans, fruit, some vegetabl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 4 calories per gra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protein sources: nuts, seeds, beans, eggs, poultry, and fis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 9 calories per gra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fat sources: olive oil, canola oil, vegetable oil</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Nutrients</a:t>
            </a:r>
            <a:endParaRPr b="1" lang="en-US" sz="3600" spc="-1" strike="noStrike">
              <a:solidFill>
                <a:srgbClr val="3ea44f"/>
              </a:solidFill>
              <a:latin typeface="Arial"/>
            </a:endParaRPr>
          </a:p>
        </p:txBody>
      </p:sp>
      <p:sp>
        <p:nvSpPr>
          <p:cNvPr id="60" name=""/>
          <p:cNvSpPr txBox="1"/>
          <p:nvPr/>
        </p:nvSpPr>
        <p:spPr>
          <a:xfrm>
            <a:off x="809640" y="1837800"/>
            <a:ext cx="451944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bohydrate</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era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141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ater, Water Everywhere</a:t>
            </a:r>
            <a:endParaRPr b="1" lang="en-US" sz="3600" spc="-1" strike="noStrike">
              <a:solidFill>
                <a:srgbClr val="3ea44f"/>
              </a:solidFill>
              <a:latin typeface="Arial"/>
            </a:endParaRPr>
          </a:p>
        </p:txBody>
      </p:sp>
      <p:sp>
        <p:nvSpPr>
          <p:cNvPr id="62" name="Text Box 5"/>
          <p:cNvSpPr/>
          <p:nvPr/>
        </p:nvSpPr>
        <p:spPr>
          <a:xfrm>
            <a:off x="584280" y="1015920"/>
            <a:ext cx="8103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ose water to quench</a:t>
            </a:r>
            <a:br>
              <a:rPr sz="4000"/>
            </a:br>
            <a:r>
              <a:rPr b="0" lang="en-US" sz="4000" spc="-1" strike="noStrike">
                <a:solidFill>
                  <a:srgbClr val="000000"/>
                </a:solidFill>
                <a:latin typeface="Arial"/>
              </a:rPr>
              <a:t>your thirst!</a:t>
            </a:r>
            <a:endParaRPr b="0" lang="en-US" sz="4000" spc="-1" strike="noStrike">
              <a:solidFill>
                <a:srgbClr val="000000"/>
              </a:solidFill>
              <a:latin typeface="Times New Roman"/>
            </a:endParaRPr>
          </a:p>
        </p:txBody>
      </p:sp>
      <p:pic>
        <p:nvPicPr>
          <p:cNvPr id="63" name="Picture 9" descr="C:\Users\boo847\Desktop\waterglassKidsHEP.jpg"/>
          <p:cNvPicPr/>
          <p:nvPr/>
        </p:nvPicPr>
        <p:blipFill>
          <a:blip r:embed="rId1"/>
          <a:stretch/>
        </p:blipFill>
        <p:spPr>
          <a:xfrm>
            <a:off x="3638520" y="2550960"/>
            <a:ext cx="2021040" cy="365760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Nutrition Tools for Consumers</a:t>
            </a:r>
            <a:endParaRPr b="1" lang="en-US" sz="3600" spc="-1" strike="noStrike">
              <a:solidFill>
                <a:srgbClr val="3ea44f"/>
              </a:solidFill>
              <a:latin typeface="Arial"/>
            </a:endParaRPr>
          </a:p>
        </p:txBody>
      </p:sp>
      <p:sp>
        <p:nvSpPr>
          <p:cNvPr id="65" name=""/>
          <p:cNvSpPr txBox="1"/>
          <p:nvPr/>
        </p:nvSpPr>
        <p:spPr>
          <a:xfrm>
            <a:off x="1009440" y="1620360"/>
            <a:ext cx="721980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etary Guidelines for American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rition and physical activity advice for healthy Americans aged 2 and up</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tion Facts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lab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nutrition information on individual foods</a:t>
            </a:r>
            <a:endParaRPr b="0" lang="en-US" sz="2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Dietary Guidelines for</a:t>
            </a:r>
            <a:br>
              <a:rPr sz="3600"/>
            </a:br>
            <a:r>
              <a:rPr b="1" i="1" lang="en-US" sz="3600" spc="-1" strike="noStrike">
                <a:solidFill>
                  <a:srgbClr val="3ea44f"/>
                </a:solidFill>
                <a:latin typeface="Arial"/>
              </a:rPr>
              <a:t>Americans</a:t>
            </a:r>
            <a:endParaRPr b="1" lang="en-US" sz="3600" spc="-1" strike="noStrike">
              <a:solidFill>
                <a:srgbClr val="3ea44f"/>
              </a:solidFill>
              <a:latin typeface="Arial"/>
            </a:endParaRPr>
          </a:p>
        </p:txBody>
      </p:sp>
      <p:sp>
        <p:nvSpPr>
          <p:cNvPr id="67" name="PlaceHolder 2"/>
          <p:cNvSpPr>
            <a:spLocks noGrp="1"/>
          </p:cNvSpPr>
          <p:nvPr>
            <p:ph/>
          </p:nvPr>
        </p:nvSpPr>
        <p:spPr>
          <a:xfrm>
            <a:off x="571320" y="1980720"/>
            <a:ext cx="7764120" cy="43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of school meals and the National School Lunch Progra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Americans make healthy food choices </a:t>
            </a:r>
            <a:r>
              <a:rPr b="1" i="1" lang="en-US" sz="2400" spc="-1" strike="noStrike">
                <a:solidFill>
                  <a:srgbClr val="000000"/>
                </a:solidFill>
                <a:latin typeface="Arial"/>
              </a:rPr>
              <a:t>over tim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enefits of Regular Physical Activity</a:t>
            </a:r>
            <a:endParaRPr b="1" lang="en-US" sz="3600" spc="-1" strike="noStrike">
              <a:solidFill>
                <a:srgbClr val="3ea44f"/>
              </a:solidFill>
              <a:latin typeface="Arial"/>
            </a:endParaRPr>
          </a:p>
        </p:txBody>
      </p:sp>
      <p:sp>
        <p:nvSpPr>
          <p:cNvPr id="69" name=""/>
          <p:cNvSpPr txBox="1"/>
          <p:nvPr/>
        </p:nvSpPr>
        <p:spPr>
          <a:xfrm>
            <a:off x="571680" y="17668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s you build healthy bones and musc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s you maintain a healthy weight or lose weight if you are overweigh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s you more energ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s your mood and reduces your anxiety and str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s your blood pressure and cholesterol levels</a:t>
            </a: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20T15:08:30Z</cp:lastPrinted>
  <dcterms:modified xsi:type="dcterms:W3CDTF">2015-11-19T17:42:37Z</dcterms:modified>
  <cp:revision>146</cp:revision>
  <dc:subject/>
  <dc:title>chapter ??</dc:title>
</cp:coreProperties>
</file>